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1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ftr" idx="1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 type="sldNum" idx="1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8AE49-5130-4C9D-BDDC-1B185BCFCC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E9C90-43E4-4120-8A0C-0D9BFCE1DC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31EBEE-2961-4B0B-850C-DCA68EA16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7848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18960" y="4067640"/>
            <a:ext cx="7848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7AC54B-AC5A-4D3C-BCDA-86C62FB98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3829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40520" y="1599840"/>
            <a:ext cx="3829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18960" y="4067640"/>
            <a:ext cx="3829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40520" y="4067640"/>
            <a:ext cx="3829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D7A54A-4933-4641-9C6F-91045F1F1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252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72520" y="1599840"/>
            <a:ext cx="252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26080" y="1599840"/>
            <a:ext cx="252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18960" y="4067640"/>
            <a:ext cx="252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72520" y="4067640"/>
            <a:ext cx="252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26080" y="4067640"/>
            <a:ext cx="252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6C4563-E693-40D5-B07A-FC2A2136B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930C55-1AE6-4D03-8B61-B0F9E75D584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B61D88-AC2E-472A-AC39-38EC1D0272E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208AD9-5055-45D6-AC05-7AC7F783299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3829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240520" y="1599840"/>
            <a:ext cx="3829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B7D3B8-CADD-43EF-919A-D2B12E3D437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4509EA-49F7-446B-9890-35F6E8319EB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218960" y="228240"/>
            <a:ext cx="79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789384-DBDA-437B-9658-36D5DB3A0BF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3829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240520" y="1599840"/>
            <a:ext cx="3829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218960" y="4067640"/>
            <a:ext cx="3829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E9AB09-D312-4691-BA01-B92E93CF816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A066B4-1A0C-48A9-895C-364624750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3829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240520" y="1599840"/>
            <a:ext cx="3829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240520" y="4067640"/>
            <a:ext cx="3829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2F5CD9-DC7D-414B-B460-2B4C49670A7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3829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40520" y="1599840"/>
            <a:ext cx="3829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218960" y="4067640"/>
            <a:ext cx="7848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F3DBCE-EDB0-4B6E-8A7E-90B97E7170C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7848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218960" y="4067640"/>
            <a:ext cx="7848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F61B6A-AF36-4263-98B9-1829E970B2F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3829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240520" y="1599840"/>
            <a:ext cx="3829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218960" y="4067640"/>
            <a:ext cx="3829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240520" y="4067640"/>
            <a:ext cx="3829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A3E5E9-EEB8-456F-9C28-47361F9A40F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252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72520" y="1599840"/>
            <a:ext cx="252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526080" y="1599840"/>
            <a:ext cx="252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218960" y="4067640"/>
            <a:ext cx="252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872520" y="4067640"/>
            <a:ext cx="252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526080" y="4067640"/>
            <a:ext cx="252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05E37E-ABE0-4D4F-BE91-918949A2B5E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367AFC4-ECE6-4EB7-BEF9-B7A579146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D5B8B61-CBFD-40A0-A144-59B173F57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2631904-AE3E-4B1C-9C46-D8C956FAF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3829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240520" y="1599840"/>
            <a:ext cx="3829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7DD9784-2244-4811-9ED8-0B701BABA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34995BD-28E5-49D4-A426-1BF2E230A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90DD29-188A-4234-8E04-54139E342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218960" y="228240"/>
            <a:ext cx="79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864D092-8861-4AC6-9BF6-D4FF7C394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3829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40520" y="1599840"/>
            <a:ext cx="3829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218960" y="4067640"/>
            <a:ext cx="3829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CF8916D-A892-4CB1-8526-F0878EC97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3829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240520" y="1599840"/>
            <a:ext cx="3829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240520" y="4067640"/>
            <a:ext cx="3829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8B91F77-6A9C-4599-BA9A-D48D4CD7D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3829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240520" y="1599840"/>
            <a:ext cx="3829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218960" y="4067640"/>
            <a:ext cx="7848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9131E14-7D39-4EE8-8AE6-10EFCFB93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7848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1218960" y="4067640"/>
            <a:ext cx="7848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36E570D-4C37-46F3-9B7A-32E70B695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3829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240520" y="1599840"/>
            <a:ext cx="3829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218960" y="4067640"/>
            <a:ext cx="3829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240520" y="4067640"/>
            <a:ext cx="3829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DC12B2F-A559-459E-BC9F-692575FCD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252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872520" y="1599840"/>
            <a:ext cx="252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526080" y="1599840"/>
            <a:ext cx="252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1218960" y="4067640"/>
            <a:ext cx="252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872520" y="4067640"/>
            <a:ext cx="252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526080" y="4067640"/>
            <a:ext cx="252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C10CBD8-4BD8-403A-BDC6-B4B493629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01EC261-FB43-4501-9D01-8CC8AED5E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EFCEA60-EE9F-48E0-834E-0DAFFBB69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C3E7338-6353-4ED6-959E-4798C6303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3829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40520" y="1599840"/>
            <a:ext cx="3829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4C9CC4-83E1-45CC-9120-A357D0D23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3829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240520" y="1599840"/>
            <a:ext cx="3829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054FA6B-83F7-4D3C-BA1A-5BE4C761A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9AF5F29-B9E6-4226-BB9B-44E3D6CF8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1218960" y="228240"/>
            <a:ext cx="79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2E759AD-84A5-4AC4-A28A-F7E574B87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3829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240520" y="1599840"/>
            <a:ext cx="3829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218960" y="4067640"/>
            <a:ext cx="3829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39A3A97-0BCF-4D14-BD00-0436BB197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3829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240520" y="1599840"/>
            <a:ext cx="3829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240520" y="4067640"/>
            <a:ext cx="3829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8D57B50-3C81-44D1-8921-B56B509B0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3829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240520" y="1599840"/>
            <a:ext cx="3829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218960" y="4067640"/>
            <a:ext cx="7848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9D29A94-1C20-4FAC-8079-D07FD2DEA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7848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1218960" y="4067640"/>
            <a:ext cx="7848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E32C6DF-4640-45D4-BB57-2D9B6FE49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3829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240520" y="1599840"/>
            <a:ext cx="3829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1218960" y="4067640"/>
            <a:ext cx="3829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5240520" y="4067640"/>
            <a:ext cx="3829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3B66705-8E66-4694-8C2E-7DE667156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252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872520" y="1599840"/>
            <a:ext cx="252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526080" y="1599840"/>
            <a:ext cx="252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1218960" y="4067640"/>
            <a:ext cx="252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872520" y="4067640"/>
            <a:ext cx="252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526080" y="4067640"/>
            <a:ext cx="252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0994924-CB56-493C-97CC-EDFE1B7BF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DAFDC6-BA46-4042-8141-81256B606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18960" y="228240"/>
            <a:ext cx="79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DB6BB7-FB83-4EC6-AE41-927765B27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3829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40520" y="1599840"/>
            <a:ext cx="3829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18960" y="4067640"/>
            <a:ext cx="3829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D6451A-5FC6-4D5F-B8A4-B876AE627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3829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40520" y="1599840"/>
            <a:ext cx="3829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40520" y="4067640"/>
            <a:ext cx="3829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436C68-09AD-477D-BB56-6B59AE919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3829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40520" y="1599840"/>
            <a:ext cx="3829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18960" y="4067640"/>
            <a:ext cx="7848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9626A9-7B4C-4F05-8DC9-CE51551D2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left_bar art"/>
          <p:cNvPicPr/>
          <p:nvPr/>
        </p:nvPicPr>
        <p:blipFill>
          <a:blip r:embed="rId2"/>
          <a:stretch/>
        </p:blipFill>
        <p:spPr>
          <a:xfrm>
            <a:off x="0" y="0"/>
            <a:ext cx="2514600" cy="70866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4040" y="6244920"/>
            <a:ext cx="1676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00"/>
                </a:solidFill>
                <a:latin typeface="Times New Roman"/>
              </a:rPr>
              <a:t>2-</a:t>
            </a:r>
            <a:fld id="{BC3F5720-7EDA-415E-8B20-587D798EDF44}" type="slidenum">
              <a:rPr b="0" lang="en-US" sz="1400" spc="-1" strike="noStrike">
                <a:solidFill>
                  <a:srgbClr val="99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2666880" y="6381360"/>
            <a:ext cx="3810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left_bar art"/>
          <p:cNvPicPr/>
          <p:nvPr/>
        </p:nvPicPr>
        <p:blipFill>
          <a:blip r:embed="rId2"/>
          <a:stretch/>
        </p:blipFill>
        <p:spPr>
          <a:xfrm>
            <a:off x="0" y="0"/>
            <a:ext cx="2514600" cy="708660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7"/>
          <p:cNvSpPr/>
          <p:nvPr/>
        </p:nvSpPr>
        <p:spPr>
          <a:xfrm>
            <a:off x="1905120" y="5715000"/>
            <a:ext cx="6400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8"/>
          <p:cNvSpPr/>
          <p:nvPr/>
        </p:nvSpPr>
        <p:spPr>
          <a:xfrm>
            <a:off x="1828800" y="5791320"/>
            <a:ext cx="6400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Elias M. Awad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1828800" y="5105520"/>
            <a:ext cx="6400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Third Editio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1828800" y="3886200"/>
            <a:ext cx="6400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ELECTRONIC COMMERCE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1"/>
          <p:cNvSpPr/>
          <p:nvPr/>
        </p:nvSpPr>
        <p:spPr>
          <a:xfrm>
            <a:off x="1828800" y="4343400"/>
            <a:ext cx="6400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From Vision to Fulfillment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2-</a:t>
            </a:r>
            <a:fld id="{612CFC51-AE32-4C0A-B814-0AAE5FAE7E5A}" type="slidenum"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33530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6"/>
          </p:nvPr>
        </p:nvSpPr>
        <p:spPr>
          <a:xfrm>
            <a:off x="914040" y="6244920"/>
            <a:ext cx="1676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7"/>
          </p:nvPr>
        </p:nvSpPr>
        <p:spPr>
          <a:xfrm>
            <a:off x="655272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00"/>
                </a:solidFill>
                <a:latin typeface="Times New Roman"/>
              </a:rPr>
              <a:t>2-</a:t>
            </a:r>
            <a:fld id="{EEC118E9-99A7-4809-B2B7-28A8F6099742}" type="slidenum">
              <a:rPr b="0" lang="en-US" sz="1400" spc="-1" strike="noStrike">
                <a:solidFill>
                  <a:srgbClr val="99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2666880" y="6381360"/>
            <a:ext cx="3810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9"/>
          </p:nvPr>
        </p:nvSpPr>
        <p:spPr>
          <a:xfrm>
            <a:off x="914040" y="6244920"/>
            <a:ext cx="1676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sldNum" idx="10"/>
          </p:nvPr>
        </p:nvSpPr>
        <p:spPr>
          <a:xfrm>
            <a:off x="655272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00"/>
                </a:solidFill>
                <a:latin typeface="Times New Roman"/>
              </a:rPr>
              <a:t>2-</a:t>
            </a:r>
            <a:fld id="{DDC767F6-6805-4043-B995-F929AEC8AEF5}" type="slidenum">
              <a:rPr b="0" lang="en-US" sz="1400" spc="-1" strike="noStrike">
                <a:solidFill>
                  <a:srgbClr val="99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11"/>
          </p:nvPr>
        </p:nvSpPr>
        <p:spPr>
          <a:xfrm>
            <a:off x="2666880" y="6381360"/>
            <a:ext cx="3810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http://www.fasterwhois.com/" TargetMode="External"/><Relationship Id="rId2" Type="http://schemas.openxmlformats.org/officeDocument/2006/relationships/hyperlink" Target="http://www.internic.net/alpha.html" TargetMode="External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hyperlink" Target="http://www.plagiarisma.net/" TargetMode="External"/><Relationship Id="rId2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Garamond"/>
              </a:rPr>
              <a:t>Chapters 2 &amp; 3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655308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00"/>
                </a:solidFill>
                <a:latin typeface="Arial"/>
              </a:rPr>
              <a:t>2-</a:t>
            </a:r>
            <a:fld id="{FF0F3007-3CC3-466C-99BF-86BA7F9D0B5C}" type="slidenum">
              <a:rPr b="0" lang="en-US" sz="1400" spc="-1" strike="noStrike">
                <a:solidFill>
                  <a:srgbClr val="9966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2"/>
          <p:cNvSpPr/>
          <p:nvPr/>
        </p:nvSpPr>
        <p:spPr>
          <a:xfrm>
            <a:off x="2666880" y="6381720"/>
            <a:ext cx="3810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7"/>
          <p:cNvSpPr/>
          <p:nvPr/>
        </p:nvSpPr>
        <p:spPr>
          <a:xfrm>
            <a:off x="1143000" y="2514600"/>
            <a:ext cx="79246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Garamond"/>
              </a:rPr>
              <a:t>Technologies for e-commerce and web hosting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IN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Link layer is the starting point for the network - deals with physical and medium of access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network layer forwards packets to their destinations - similar to usage of a courier - address of the destination and mode of routing the packe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IP address layer - Each IP address has 32 bits - IP address has two parts: the networmk number and the host number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Routing helps in forwarding the packets to and from internet - Each routing has rules in the form of table which directs where a packet should be forwarded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655308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00"/>
                </a:solidFill>
                <a:latin typeface="Arial"/>
              </a:rPr>
              <a:t>2-</a:t>
            </a:r>
            <a:fld id="{A49FD392-C054-4076-8EC3-C4EC847DF668}" type="slidenum">
              <a:rPr b="0" lang="en-US" sz="1400" spc="-1" strike="noStrike">
                <a:solidFill>
                  <a:srgbClr val="9966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Footer Placeholder 4"/>
          <p:cNvSpPr/>
          <p:nvPr/>
        </p:nvSpPr>
        <p:spPr>
          <a:xfrm>
            <a:off x="2666880" y="6381720"/>
            <a:ext cx="3810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6633"/>
                </a:solidFill>
                <a:latin typeface="Garamond"/>
              </a:rPr>
              <a:t>IPv4 vs IPv6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New version of IP called IPv6 and current version is IPv4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IPv4 uses 32 bit address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A packet is transmitted by multiplicating and then sent to different locations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results in clogging the network bandwidth 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wastages of the network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IPv^6 multicast is used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single packet can be transmitted to multiple locations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security control : IPSec has been used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655308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00"/>
                </a:solidFill>
                <a:latin typeface="Arial"/>
              </a:rPr>
              <a:t>2-</a:t>
            </a:r>
            <a:fld id="{96C5BC57-EDC4-43ED-B325-A4872190C279}" type="slidenum">
              <a:rPr b="0" lang="en-US" sz="1400" spc="-1" strike="noStrike">
                <a:solidFill>
                  <a:srgbClr val="9966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Footer Placeholder 4"/>
          <p:cNvSpPr/>
          <p:nvPr/>
        </p:nvSpPr>
        <p:spPr>
          <a:xfrm>
            <a:off x="2666880" y="6381720"/>
            <a:ext cx="3810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Slide Number Placeholder 4"/>
          <p:cNvSpPr/>
          <p:nvPr/>
        </p:nvSpPr>
        <p:spPr>
          <a:xfrm>
            <a:off x="655308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00"/>
                </a:solidFill>
                <a:latin typeface="Arial"/>
              </a:rPr>
              <a:t>2-</a:t>
            </a:r>
            <a:fld id="{EED553D5-832B-4199-AC83-D46B4B4E2902}" type="slidenum">
              <a:rPr b="0" lang="en-US" sz="1400" spc="-1" strike="noStrike">
                <a:solidFill>
                  <a:srgbClr val="9966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Footer Placeholder 5"/>
          <p:cNvSpPr/>
          <p:nvPr/>
        </p:nvSpPr>
        <p:spPr>
          <a:xfrm>
            <a:off x="2666880" y="6381720"/>
            <a:ext cx="3810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Technology evolution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Internet is the infrastructure that links thousands of networks together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Internet owes its existence to the Pentagon and the cold war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Original networked sites were military installations, universities, and business firms with defense department contracts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Initial goal was to design a network that would maintain the safe transition of data between military computers at select sites through redundant communication routes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Slide Number Placeholder 4"/>
          <p:cNvSpPr/>
          <p:nvPr/>
        </p:nvSpPr>
        <p:spPr>
          <a:xfrm>
            <a:off x="655308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00"/>
                </a:solidFill>
                <a:latin typeface="Arial"/>
              </a:rPr>
              <a:t>2-</a:t>
            </a:r>
            <a:fld id="{97C6E204-EFEE-4E4F-96E5-F4E9EDF7C2BC}" type="slidenum">
              <a:rPr b="0" lang="en-US" sz="1400" spc="-1" strike="noStrike">
                <a:solidFill>
                  <a:srgbClr val="9966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Footer Placeholder 5"/>
          <p:cNvSpPr/>
          <p:nvPr/>
        </p:nvSpPr>
        <p:spPr>
          <a:xfrm>
            <a:off x="2666880" y="6381720"/>
            <a:ext cx="3810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996633"/>
                </a:solidFill>
                <a:latin typeface="Garamond"/>
              </a:rPr>
              <a:t>cont'd…</a:t>
            </a:r>
            <a:endParaRPr b="1" lang="en-US" sz="3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Researchers devised a way of bundling information into packets that carried the network address of the recipien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3399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Each packet is sent into a so-called network “cloud” across the vast array of computers on the network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Each computer checks to see if the information belongs to any of its clients and forwards it to the next computer to which it might belong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Once claimed by the right computer, the packet is opened to reveal the message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is message delivery system is moved by a protoco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Slide Number Placeholder 4"/>
          <p:cNvSpPr/>
          <p:nvPr/>
        </p:nvSpPr>
        <p:spPr>
          <a:xfrm>
            <a:off x="655308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00"/>
                </a:solidFill>
                <a:latin typeface="Arial"/>
              </a:rPr>
              <a:t>2-</a:t>
            </a:r>
            <a:fld id="{CC4E91E6-BA9F-4B31-BBC1-952B5CD4CDE7}" type="slidenum">
              <a:rPr b="0" lang="en-US" sz="1400" spc="-1" strike="noStrike">
                <a:solidFill>
                  <a:srgbClr val="9966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Footer Placeholder 5"/>
          <p:cNvSpPr/>
          <p:nvPr/>
        </p:nvSpPr>
        <p:spPr>
          <a:xfrm>
            <a:off x="2666880" y="6381720"/>
            <a:ext cx="3810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996633"/>
                </a:solidFill>
                <a:latin typeface="Garamond"/>
              </a:rPr>
              <a:t>cont‘d</a:t>
            </a:r>
            <a:endParaRPr b="1" lang="en-US" sz="3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218960" y="1142640"/>
            <a:ext cx="784836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At first, Internet traffic was government related and government subsidized:  No ordinary person or company could use the Internet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April 1995 the U.S. government relinquished control of the Internet to independent governing bodies, which relaxed entry for almost everyone</a:t>
            </a:r>
            <a:endParaRPr b="1" lang="en-US" sz="2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8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6"/>
          <p:cNvGrpSpPr/>
          <p:nvPr/>
        </p:nvGrpSpPr>
        <p:grpSpPr>
          <a:xfrm>
            <a:off x="1600200" y="3505320"/>
            <a:ext cx="5486400" cy="3200400"/>
            <a:chOff x="1600200" y="3505320"/>
            <a:chExt cx="5486400" cy="3200400"/>
          </a:xfrm>
        </p:grpSpPr>
        <p:sp>
          <p:nvSpPr>
            <p:cNvPr id="290" name="AutoShape 16"/>
            <p:cNvSpPr/>
            <p:nvPr/>
          </p:nvSpPr>
          <p:spPr>
            <a:xfrm>
              <a:off x="1600200" y="3505320"/>
              <a:ext cx="5486400" cy="320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Text Box 15"/>
            <p:cNvSpPr/>
            <p:nvPr/>
          </p:nvSpPr>
          <p:spPr>
            <a:xfrm>
              <a:off x="2057400" y="4762800"/>
              <a:ext cx="79992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8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Web user/ web client</a:t>
              </a:r>
              <a:endParaRPr b="0" i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AutoShape 14"/>
            <p:cNvSpPr/>
            <p:nvPr/>
          </p:nvSpPr>
          <p:spPr>
            <a:xfrm>
              <a:off x="3543120" y="4762800"/>
              <a:ext cx="914400" cy="457200"/>
            </a:xfrm>
            <a:prstGeom prst="parallelogram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8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Internet</a:t>
              </a:r>
              <a:endParaRPr b="0" i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AutoShape 13"/>
            <p:cNvSpPr/>
            <p:nvPr/>
          </p:nvSpPr>
          <p:spPr>
            <a:xfrm>
              <a:off x="5029200" y="4534560"/>
              <a:ext cx="914400" cy="68508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8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Web Applications</a:t>
              </a:r>
              <a:endParaRPr b="0" i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AutoShape 12"/>
            <p:cNvSpPr/>
            <p:nvPr/>
          </p:nvSpPr>
          <p:spPr>
            <a:xfrm>
              <a:off x="6172200" y="4762800"/>
              <a:ext cx="571320" cy="45720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8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Web Server</a:t>
              </a:r>
              <a:endParaRPr b="0" i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AutoShape 11"/>
            <p:cNvSpPr/>
            <p:nvPr/>
          </p:nvSpPr>
          <p:spPr>
            <a:xfrm>
              <a:off x="6057720" y="5677200"/>
              <a:ext cx="685440" cy="57132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8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Database</a:t>
              </a:r>
              <a:endParaRPr b="0" i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6" name="AutoShape 10"/>
            <p:cNvCxnSpPr/>
            <p:nvPr/>
          </p:nvCxnSpPr>
          <p:spPr>
            <a:xfrm>
              <a:off x="2857320" y="4990680"/>
              <a:ext cx="800640" cy="1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97" name="AutoShape 9"/>
            <p:cNvCxnSpPr/>
            <p:nvPr/>
          </p:nvCxnSpPr>
          <p:spPr>
            <a:xfrm flipV="1">
              <a:off x="4343400" y="4961880"/>
              <a:ext cx="686160" cy="29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98" name="AutoShape 8"/>
            <p:cNvCxnSpPr/>
            <p:nvPr/>
          </p:nvCxnSpPr>
          <p:spPr>
            <a:xfrm>
              <a:off x="5943240" y="4792320"/>
              <a:ext cx="229320" cy="199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99" name="AutoShape 7"/>
            <p:cNvCxnSpPr/>
            <p:nvPr/>
          </p:nvCxnSpPr>
          <p:spPr>
            <a:xfrm flipH="1">
              <a:off x="6400440" y="5220000"/>
              <a:ext cx="57600" cy="457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3200" spc="-1" strike="noStrike">
                <a:solidFill>
                  <a:srgbClr val="996633"/>
                </a:solidFill>
                <a:latin typeface="Garamond"/>
              </a:rPr>
              <a:t>COPYRIGHT INFRINGEMENTS</a:t>
            </a:r>
            <a:br>
              <a:rPr sz="3200"/>
            </a:br>
            <a:endParaRPr b="1" lang="en-US" sz="32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727920" indent="-28008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400" spc="-1" strike="noStrike">
                <a:solidFill>
                  <a:srgbClr val="333399"/>
                </a:solidFill>
                <a:latin typeface="Arial"/>
              </a:rPr>
              <a:t>Making infringing copies for sale or hire or selling or letting them for hire;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400" spc="-1" strike="noStrike">
                <a:solidFill>
                  <a:srgbClr val="333399"/>
                </a:solidFill>
                <a:latin typeface="Arial"/>
              </a:rPr>
              <a:t>Permitting any place for the performance of works in public where such performance constitutes infringement of copyright;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400" spc="-1" strike="noStrike">
                <a:solidFill>
                  <a:srgbClr val="333399"/>
                </a:solidFill>
                <a:latin typeface="Arial"/>
              </a:rPr>
              <a:t>Distributing infringing copies for the purpose of trade or to such an extent so as to affect prejudicially the interest of the owner of copyright ;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400" spc="-1" strike="noStrike">
                <a:solidFill>
                  <a:srgbClr val="333399"/>
                </a:solidFill>
                <a:latin typeface="Arial"/>
              </a:rPr>
              <a:t>Public exhibition of infringing copies by way of trade; and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400" spc="-1" strike="noStrike">
                <a:solidFill>
                  <a:srgbClr val="333399"/>
                </a:solidFill>
                <a:latin typeface="Arial"/>
              </a:rPr>
              <a:t>Importation of infringing copies 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2" name="Slide Number Placeholder 3"/>
          <p:cNvSpPr/>
          <p:nvPr/>
        </p:nvSpPr>
        <p:spPr>
          <a:xfrm>
            <a:off x="655308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00"/>
                </a:solidFill>
                <a:latin typeface="Arial"/>
              </a:rPr>
              <a:t>2-</a:t>
            </a:r>
            <a:fld id="{56142ED9-9042-4672-A97A-067B6C014840}" type="slidenum">
              <a:rPr b="0" lang="en-US" sz="1400" spc="-1" strike="noStrike">
                <a:solidFill>
                  <a:srgbClr val="9966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Footer Placeholder 4"/>
          <p:cNvSpPr/>
          <p:nvPr/>
        </p:nvSpPr>
        <p:spPr>
          <a:xfrm>
            <a:off x="2666880" y="6381720"/>
            <a:ext cx="3810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Slide Number Placeholder 4"/>
          <p:cNvSpPr/>
          <p:nvPr/>
        </p:nvSpPr>
        <p:spPr>
          <a:xfrm>
            <a:off x="655308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00"/>
                </a:solidFill>
                <a:latin typeface="Arial"/>
              </a:rPr>
              <a:t>3-</a:t>
            </a:r>
            <a:fld id="{5299F9DA-B993-4444-9E8E-528C411D23CC}" type="slidenum">
              <a:rPr b="0" lang="en-US" sz="1400" spc="-1" strike="noStrike">
                <a:solidFill>
                  <a:srgbClr val="9966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Footer Placeholder 5"/>
          <p:cNvSpPr/>
          <p:nvPr/>
        </p:nvSpPr>
        <p:spPr>
          <a:xfrm>
            <a:off x="2666880" y="6381720"/>
            <a:ext cx="3810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IP Addresses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 Web site’s address includes the name of the host computer’s link the Web site resides on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Each host is identified by a unique host number (called an IP address) and by a name that is easier to remember than the number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Slide Number Placeholder 4"/>
          <p:cNvSpPr/>
          <p:nvPr/>
        </p:nvSpPr>
        <p:spPr>
          <a:xfrm>
            <a:off x="655308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00"/>
                </a:solidFill>
                <a:latin typeface="Arial"/>
              </a:rPr>
              <a:t>3-</a:t>
            </a:r>
            <a:fld id="{F90ECF1A-C32F-46BB-BF44-D4EFA7E5C4BD}" type="slidenum">
              <a:rPr b="0" lang="en-US" sz="1400" spc="-1" strike="noStrike">
                <a:solidFill>
                  <a:srgbClr val="9966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Footer Placeholder 5"/>
          <p:cNvSpPr/>
          <p:nvPr/>
        </p:nvSpPr>
        <p:spPr>
          <a:xfrm>
            <a:off x="2666880" y="6381720"/>
            <a:ext cx="3810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IP Address Arithmetic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8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n IP address consists of 32 binary digits or bits (zeros and ones)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29040" indent="-329040">
              <a:spcBef>
                <a:spcPts val="18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Divide the 32 bits into 4 groups of 8 bits called a byte, or octe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29040" indent="-329040">
              <a:spcBef>
                <a:spcPts val="18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Each octet represents a decimal value from 0 through 255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29040" indent="-329040">
              <a:spcBef>
                <a:spcPts val="18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Write the four decimal values separated by dots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29040" indent="-329040">
              <a:spcBef>
                <a:spcPts val="18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191.170.64.12 - computer friendly, but not human friendly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29040" indent="-329040">
              <a:spcBef>
                <a:spcPts val="18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Every host on the Internet has a host number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Slide Number Placeholder 4"/>
          <p:cNvSpPr/>
          <p:nvPr/>
        </p:nvSpPr>
        <p:spPr>
          <a:xfrm>
            <a:off x="655308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00"/>
                </a:solidFill>
                <a:latin typeface="Arial"/>
              </a:rPr>
              <a:t>3-</a:t>
            </a:r>
            <a:fld id="{6694E85A-FB9F-4B7B-B8B8-45BFFA1A5674}" type="slidenum">
              <a:rPr b="0" lang="en-US" sz="1400" spc="-1" strike="noStrike">
                <a:solidFill>
                  <a:srgbClr val="9966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Footer Placeholder 5"/>
          <p:cNvSpPr/>
          <p:nvPr/>
        </p:nvSpPr>
        <p:spPr>
          <a:xfrm>
            <a:off x="2666880" y="6381720"/>
            <a:ext cx="3810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Host Naming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 host </a:t>
            </a:r>
            <a:r>
              <a:rPr b="1" i="1" lang="en-US" sz="2400" spc="-1" strike="noStrike">
                <a:solidFill>
                  <a:srgbClr val="333399"/>
                </a:solidFill>
                <a:latin typeface="Arial Black"/>
              </a:rPr>
              <a:t>name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is an Internet address consisting of text labels separated by dots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Host name is people friendly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Host names used instead of IP addresses or host numbers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Slide Number Placeholder 4"/>
          <p:cNvSpPr/>
          <p:nvPr/>
        </p:nvSpPr>
        <p:spPr>
          <a:xfrm>
            <a:off x="655308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00"/>
                </a:solidFill>
                <a:latin typeface="Arial"/>
              </a:rPr>
              <a:t>3-</a:t>
            </a:r>
            <a:fld id="{7B1CBC7D-B19C-4057-8543-6C122A6E1678}" type="slidenum">
              <a:rPr b="0" lang="en-US" sz="1400" spc="-1" strike="noStrike">
                <a:solidFill>
                  <a:srgbClr val="9966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Footer Placeholder 5"/>
          <p:cNvSpPr/>
          <p:nvPr/>
        </p:nvSpPr>
        <p:spPr>
          <a:xfrm>
            <a:off x="2666880" y="6381720"/>
            <a:ext cx="3810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Networks and Numbers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Host number divided into two parts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Network part - 2 octets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Local part - 2 octets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University of Virginia host number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191  .  170  .  64  .  12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   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     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network         local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        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part             part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All UVa addresses begin with 191 . 170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64 identifies a subnet at UVa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12 is the machine on the subnet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0" name="Text Box 4"/>
          <p:cNvSpPr/>
          <p:nvPr/>
        </p:nvSpPr>
        <p:spPr>
          <a:xfrm rot="16200000">
            <a:off x="2427840" y="3058200"/>
            <a:ext cx="663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{</a:t>
            </a:r>
            <a:endParaRPr b="0" i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5"/>
          <p:cNvSpPr/>
          <p:nvPr/>
        </p:nvSpPr>
        <p:spPr>
          <a:xfrm rot="16200000">
            <a:off x="3875760" y="3058200"/>
            <a:ext cx="663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{</a:t>
            </a:r>
            <a:endParaRPr b="0" i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Learning Objectives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Role of technologies in e-commerce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Web architecture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Hypertext Transfer Protoco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Web pages (static and dynamic)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Cookies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How to design web pages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The steps required to make the design error free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Process for publishing web page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Process for hosting web page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4" name="Slide Number Placeholder 4"/>
          <p:cNvSpPr/>
          <p:nvPr/>
        </p:nvSpPr>
        <p:spPr>
          <a:xfrm>
            <a:off x="655308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00"/>
                </a:solidFill>
                <a:latin typeface="Arial"/>
              </a:rPr>
              <a:t>2-</a:t>
            </a:r>
            <a:fld id="{136ADC30-A4CA-4F64-942C-C3D607377B93}" type="slidenum">
              <a:rPr b="0" lang="en-US" sz="1400" spc="-1" strike="noStrike">
                <a:solidFill>
                  <a:srgbClr val="9966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Footer Placeholder 5"/>
          <p:cNvSpPr/>
          <p:nvPr/>
        </p:nvSpPr>
        <p:spPr>
          <a:xfrm>
            <a:off x="2666880" y="6381720"/>
            <a:ext cx="3810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Slide Number Placeholder 4"/>
          <p:cNvSpPr/>
          <p:nvPr/>
        </p:nvSpPr>
        <p:spPr>
          <a:xfrm>
            <a:off x="655308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00"/>
                </a:solidFill>
                <a:latin typeface="Arial"/>
              </a:rPr>
              <a:t>3-</a:t>
            </a:r>
            <a:fld id="{AC5C04AB-1D4E-48EF-A7B5-FBDB2BAD31F3}" type="slidenum">
              <a:rPr b="0" lang="en-US" sz="1400" spc="-1" strike="noStrike">
                <a:solidFill>
                  <a:srgbClr val="9966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Footer Placeholder 5"/>
          <p:cNvSpPr/>
          <p:nvPr/>
        </p:nvSpPr>
        <p:spPr>
          <a:xfrm>
            <a:off x="2666880" y="6381720"/>
            <a:ext cx="3810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Networks and Sizes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Networks are classified in three sizes: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ass A (large)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ass B (medium)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ass C (small)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ass D is a multicast network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e initial bits of the IP address tells the size of the network hos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Slide Number Placeholder 3"/>
          <p:cNvSpPr/>
          <p:nvPr/>
        </p:nvSpPr>
        <p:spPr>
          <a:xfrm>
            <a:off x="655308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00"/>
                </a:solidFill>
                <a:latin typeface="Arial"/>
              </a:rPr>
              <a:t>3-</a:t>
            </a:r>
            <a:fld id="{B308DB95-430E-4939-9CF6-E8C4CA028001}" type="slidenum">
              <a:rPr b="0" lang="en-US" sz="1400" spc="-1" strike="noStrike">
                <a:solidFill>
                  <a:srgbClr val="9966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Footer Placeholder 4"/>
          <p:cNvSpPr/>
          <p:nvPr/>
        </p:nvSpPr>
        <p:spPr>
          <a:xfrm>
            <a:off x="2666880" y="6381720"/>
            <a:ext cx="3810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IP Address Classes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pic>
        <p:nvPicPr>
          <p:cNvPr id="329" name="Picture 4" descr="Table 3"/>
          <p:cNvPicPr/>
          <p:nvPr/>
        </p:nvPicPr>
        <p:blipFill>
          <a:blip r:embed="rId1"/>
          <a:stretch/>
        </p:blipFill>
        <p:spPr>
          <a:xfrm>
            <a:off x="1038240" y="2263680"/>
            <a:ext cx="810576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Slide Number Placeholder 4"/>
          <p:cNvSpPr/>
          <p:nvPr/>
        </p:nvSpPr>
        <p:spPr>
          <a:xfrm>
            <a:off x="655308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00"/>
                </a:solidFill>
                <a:latin typeface="Arial"/>
              </a:rPr>
              <a:t>2-</a:t>
            </a:r>
            <a:fld id="{F6BC9B89-7C0C-4E62-8481-F76212655FDD}" type="slidenum">
              <a:rPr b="0" lang="en-US" sz="1400" spc="-1" strike="noStrike">
                <a:solidFill>
                  <a:srgbClr val="9966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Footer Placeholder 5"/>
          <p:cNvSpPr/>
          <p:nvPr/>
        </p:nvSpPr>
        <p:spPr>
          <a:xfrm>
            <a:off x="2666880" y="6381720"/>
            <a:ext cx="3810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Web Search Elements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Internet contains thousands of Web sites dedicated to tens of thousands of topics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Key elements that make the search process feasible: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Browser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lug-Ins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arch Engine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Slide Number Placeholder 4"/>
          <p:cNvSpPr/>
          <p:nvPr/>
        </p:nvSpPr>
        <p:spPr>
          <a:xfrm>
            <a:off x="655308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00"/>
                </a:solidFill>
                <a:latin typeface="Arial"/>
              </a:rPr>
              <a:t>2-</a:t>
            </a:r>
            <a:fld id="{FBC0DAAA-CCAA-481C-9983-B742EC66A25D}" type="slidenum">
              <a:rPr b="0" lang="en-US" sz="1400" spc="-1" strike="noStrike">
                <a:solidFill>
                  <a:srgbClr val="9966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Footer Placeholder 5"/>
          <p:cNvSpPr/>
          <p:nvPr/>
        </p:nvSpPr>
        <p:spPr>
          <a:xfrm>
            <a:off x="2666880" y="6381720"/>
            <a:ext cx="3810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The Browser </a:t>
            </a:r>
            <a:r>
              <a:rPr b="1" i="1" lang="en-US" sz="3400" spc="-1" strike="noStrike">
                <a:solidFill>
                  <a:srgbClr val="996633"/>
                </a:solidFill>
                <a:latin typeface="Garamond"/>
              </a:rPr>
              <a:t>(cont'd)</a:t>
            </a:r>
            <a:endParaRPr b="1" lang="en-US" sz="3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579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  browser is a piece of software that allows users to navigate the Web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579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333399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579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Netscape Navigator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579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Microsoft Internet Explorer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579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irefox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579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Opera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Slide Number Placeholder 4"/>
          <p:cNvSpPr/>
          <p:nvPr/>
        </p:nvSpPr>
        <p:spPr>
          <a:xfrm>
            <a:off x="655308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00"/>
                </a:solidFill>
                <a:latin typeface="Arial"/>
              </a:rPr>
              <a:t>2-</a:t>
            </a:r>
            <a:fld id="{C55E8C3E-A8BA-48E3-AC8B-49941E168AAA}" type="slidenum">
              <a:rPr b="0" lang="en-US" sz="1400" spc="-1" strike="noStrike">
                <a:solidFill>
                  <a:srgbClr val="9966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Footer Placeholder 5"/>
          <p:cNvSpPr/>
          <p:nvPr/>
        </p:nvSpPr>
        <p:spPr>
          <a:xfrm>
            <a:off x="2666880" y="6381720"/>
            <a:ext cx="3810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The Browser </a:t>
            </a:r>
            <a:r>
              <a:rPr b="1" i="1" lang="en-US" sz="3400" spc="-1" strike="noStrike">
                <a:solidFill>
                  <a:srgbClr val="996633"/>
                </a:solidFill>
                <a:latin typeface="Garamond"/>
              </a:rPr>
              <a:t>(cont'd)</a:t>
            </a:r>
            <a:endParaRPr b="1" lang="en-US" sz="3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579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 browser is a Web client program that uses Hypertext Transfer Protocol (HTTP) to make requests of Web servers throughout the Internet on behalf of the browser user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579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333399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579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Text-only mode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such as Lynx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579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Graphic mode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involves a graphical software program that retrieves text, audio, and vide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Slide Number Placeholder 4"/>
          <p:cNvSpPr/>
          <p:nvPr/>
        </p:nvSpPr>
        <p:spPr>
          <a:xfrm>
            <a:off x="655308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00"/>
                </a:solidFill>
                <a:latin typeface="Arial"/>
              </a:rPr>
              <a:t>2-</a:t>
            </a:r>
            <a:fld id="{F804BF8C-BF49-4B2B-B20A-93BBE1DB8590}" type="slidenum">
              <a:rPr b="0" lang="en-US" sz="1400" spc="-1" strike="noStrike">
                <a:solidFill>
                  <a:srgbClr val="9966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Footer Placeholder 5"/>
          <p:cNvSpPr/>
          <p:nvPr/>
        </p:nvSpPr>
        <p:spPr>
          <a:xfrm>
            <a:off x="2666880" y="6381720"/>
            <a:ext cx="3810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Plug-Ins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Software programs configured to a Web browser to improve its capabilities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Working together with plug-ins, browsers today offer seamless multimedia experiences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A popular plug-in on the Web is Adobe Acrobat Reader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Microsoft developed software called Active X, which makes plug-ins unnecessary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This software makes it possible to embed animated objects and data on Web pages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Being a Microsoft product, Active X works best with Microsoft’s Internet Explorer browser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Slide Number Placeholder 4"/>
          <p:cNvSpPr/>
          <p:nvPr/>
        </p:nvSpPr>
        <p:spPr>
          <a:xfrm>
            <a:off x="655308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00"/>
                </a:solidFill>
                <a:latin typeface="Arial"/>
              </a:rPr>
              <a:t>2-</a:t>
            </a:r>
            <a:fld id="{BF8A6276-6DB9-40EF-ACA1-7CFC99A75455}" type="slidenum">
              <a:rPr b="0" lang="en-US" sz="1400" spc="-1" strike="noStrike">
                <a:solidFill>
                  <a:srgbClr val="9966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Footer Placeholder 5"/>
          <p:cNvSpPr/>
          <p:nvPr/>
        </p:nvSpPr>
        <p:spPr>
          <a:xfrm>
            <a:off x="2666880" y="6381720"/>
            <a:ext cx="3810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Internet Service Providers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Internet service provider (ISP) is a company that links users to the Internet for a fee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rvices offered by ISPs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Linking consumers and businesses to the Interne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Monitoring and maintaining customers’ Web sites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roviding network management and system integration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roviding backbone access services for other ISPs (like PSI and UUNET)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Offering payment systems for online purchases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996633"/>
                </a:solidFill>
                <a:latin typeface="Garamond"/>
              </a:rPr>
              <a:t>Uniform Resource Locator (URL)</a:t>
            </a:r>
            <a:br>
              <a:rPr sz="4000"/>
            </a:br>
            <a:endParaRPr b="1" lang="en-US" sz="40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400" spc="-1" strike="noStrike">
                <a:solidFill>
                  <a:srgbClr val="333399"/>
                </a:solidFill>
                <a:latin typeface="Arial"/>
              </a:rPr>
              <a:t>Used for </a:t>
            </a: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providing unique address for a web page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General representation of any URL : </a:t>
            </a: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Protocol://domain_name/directory/resource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protocol represents definition of protocols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http stands for hypertext transfer protoco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https represent secure hypertext transfer protoco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ftp represents file transfer protoco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telnet represents protocol for accessing a remote computer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2" name="Slide Number Placeholder 3"/>
          <p:cNvSpPr/>
          <p:nvPr/>
        </p:nvSpPr>
        <p:spPr>
          <a:xfrm>
            <a:off x="655308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00"/>
                </a:solidFill>
                <a:latin typeface="Arial"/>
              </a:rPr>
              <a:t>2-</a:t>
            </a:r>
            <a:fld id="{5539A991-9A8F-4C3D-B59B-E2D68AA7FFA6}" type="slidenum">
              <a:rPr b="0" lang="en-US" sz="1400" spc="-1" strike="noStrike">
                <a:solidFill>
                  <a:srgbClr val="9966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Footer Placeholder 4"/>
          <p:cNvSpPr/>
          <p:nvPr/>
        </p:nvSpPr>
        <p:spPr>
          <a:xfrm>
            <a:off x="2666880" y="6381720"/>
            <a:ext cx="3810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996633"/>
                </a:solidFill>
                <a:latin typeface="Garamond"/>
              </a:rPr>
              <a:t>Hypertext Transfer Protocol (HTTP)</a:t>
            </a:r>
            <a:br>
              <a:rPr sz="3600"/>
            </a:br>
            <a:endParaRPr b="1" lang="en-US" sz="36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HTTP is used for communicating between web client and web server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browser obtains the IP address of the domain through DNS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then web client establishes a TCP connection to port 80 of the web server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port number 80 is the default port for HTTP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response is specified in Multipurpose Internet Mail Extension (MIME) format 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a proxy server for security and other administrative reasons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6" name="Slide Number Placeholder 3"/>
          <p:cNvSpPr/>
          <p:nvPr/>
        </p:nvSpPr>
        <p:spPr>
          <a:xfrm>
            <a:off x="655308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00"/>
                </a:solidFill>
                <a:latin typeface="Arial"/>
              </a:rPr>
              <a:t>2-</a:t>
            </a:r>
            <a:fld id="{63E3578F-F1E9-446F-8C06-A350A52F0737}" type="slidenum">
              <a:rPr b="0" lang="en-US" sz="1400" spc="-1" strike="noStrike">
                <a:solidFill>
                  <a:srgbClr val="9966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Footer Placeholder 4"/>
          <p:cNvSpPr/>
          <p:nvPr/>
        </p:nvSpPr>
        <p:spPr>
          <a:xfrm>
            <a:off x="2666880" y="6381720"/>
            <a:ext cx="3810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4400" spc="-1" strike="noStrike">
                <a:solidFill>
                  <a:srgbClr val="996633"/>
                </a:solidFill>
                <a:latin typeface="Garamond"/>
              </a:rPr>
              <a:t>Cookies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HTTP does not keep any information related to users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web server receives a HTTP request for any information, it can be for a new client or an extended session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Data about the users state and requests are important  - business analytics are developed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‘</a:t>
            </a: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cookies’ were developed by which a web server would save these data at the web clien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655308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00"/>
                </a:solidFill>
                <a:latin typeface="Arial"/>
              </a:rPr>
              <a:t>2-</a:t>
            </a:r>
            <a:fld id="{490AF141-3154-4F0A-B9A0-683872F465C7}" type="slidenum">
              <a:rPr b="0" lang="en-US" sz="1400" spc="-1" strike="noStrike">
                <a:solidFill>
                  <a:srgbClr val="9966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Footer Placeholder 4"/>
          <p:cNvSpPr/>
          <p:nvPr/>
        </p:nvSpPr>
        <p:spPr>
          <a:xfrm>
            <a:off x="2666880" y="6381720"/>
            <a:ext cx="3810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4400" spc="-1" strike="noStrike">
                <a:solidFill>
                  <a:srgbClr val="996633"/>
                </a:solidFill>
                <a:latin typeface="Garamond"/>
              </a:rPr>
              <a:t>E-commerce technology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E-commerce has three-tiered system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three tier refers to three main components 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Client side, 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server side and 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the connecting bridge which is known as interne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For fulfilling any order, we need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Three tier model PLUS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supplier system, 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warehouse system, 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logistics system 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655308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00"/>
                </a:solidFill>
                <a:latin typeface="Arial"/>
              </a:rPr>
              <a:t>2-</a:t>
            </a:r>
            <a:fld id="{7F9BBB59-CC1B-40B3-8648-6199B6B1B958}" type="slidenum">
              <a:rPr b="0" lang="en-US" sz="1400" spc="-1" strike="noStrike">
                <a:solidFill>
                  <a:srgbClr val="9966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Footer Placeholder 4"/>
          <p:cNvSpPr/>
          <p:nvPr/>
        </p:nvSpPr>
        <p:spPr>
          <a:xfrm>
            <a:off x="2666880" y="6381720"/>
            <a:ext cx="3810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996633"/>
                </a:solidFill>
                <a:latin typeface="Garamond"/>
              </a:rPr>
              <a:t>Client side or web programming</a:t>
            </a:r>
            <a:endParaRPr b="1" lang="en-US" sz="40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programming can be done in HTML, JavaScript, Java Applets, ActiveX controls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plugins can be used which are small applications that are embedded in a web page 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special functions (such as animations)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client side programming techniques such as HTML and JavaScipt, LINKS, Images, Tables, Frames, Form, Stylesheets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4" name="Slide Number Placeholder 3"/>
          <p:cNvSpPr/>
          <p:nvPr/>
        </p:nvSpPr>
        <p:spPr>
          <a:xfrm>
            <a:off x="655308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00"/>
                </a:solidFill>
                <a:latin typeface="Arial"/>
              </a:rPr>
              <a:t>2-</a:t>
            </a:r>
            <a:fld id="{D9F322A5-19B2-48CB-80D2-2BD43CF39FB6}" type="slidenum">
              <a:rPr b="0" lang="en-US" sz="1400" spc="-1" strike="noStrike">
                <a:solidFill>
                  <a:srgbClr val="9966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Footer Placeholder 4"/>
          <p:cNvSpPr/>
          <p:nvPr/>
        </p:nvSpPr>
        <p:spPr>
          <a:xfrm>
            <a:off x="2666880" y="6381720"/>
            <a:ext cx="3810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Slide Number Placeholder 4"/>
          <p:cNvSpPr/>
          <p:nvPr/>
        </p:nvSpPr>
        <p:spPr>
          <a:xfrm>
            <a:off x="655308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00"/>
                </a:solidFill>
                <a:latin typeface="Arial"/>
              </a:rPr>
              <a:t>2-</a:t>
            </a:r>
            <a:fld id="{AC18682E-2BAF-4EF9-A61C-B3B591DDD90F}" type="slidenum">
              <a:rPr b="0" lang="en-US" sz="1400" spc="-1" strike="noStrike">
                <a:solidFill>
                  <a:srgbClr val="9966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Footer Placeholder 5"/>
          <p:cNvSpPr/>
          <p:nvPr/>
        </p:nvSpPr>
        <p:spPr>
          <a:xfrm>
            <a:off x="2666880" y="6381720"/>
            <a:ext cx="3810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Managerial Implications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295280" y="137124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e Web has changed the way business and information technology work together.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32640" indent="-33264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E-commerce is transforming the Internet from a “browse-and-surf” environment into a mammoth information exchange.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32640" indent="-33264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e important thing is to keep an eye on the technologies, as they evolve, and to be familiar with the changes before taking a dive into the Internet.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32640" indent="-33264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trategize first, test the waters, and be sure you have a unique product supported by qualified staff to follow up on the Web traffic that it attracts.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Slide Number Placeholder 4"/>
          <p:cNvSpPr/>
          <p:nvPr/>
        </p:nvSpPr>
        <p:spPr>
          <a:xfrm>
            <a:off x="655308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00"/>
                </a:solidFill>
                <a:latin typeface="Arial"/>
              </a:rPr>
              <a:t>2-</a:t>
            </a:r>
            <a:fld id="{6B1C29D5-6DB4-41AA-A502-CD6429778B93}" type="slidenum">
              <a:rPr b="0" lang="en-US" sz="1400" spc="-1" strike="noStrike">
                <a:solidFill>
                  <a:srgbClr val="9966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Footer Placeholder 5"/>
          <p:cNvSpPr/>
          <p:nvPr/>
        </p:nvSpPr>
        <p:spPr>
          <a:xfrm>
            <a:off x="2666880" y="6381720"/>
            <a:ext cx="3810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Summary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e Internet has many uses; it also has many limitations.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World Wide Web is a global hypertext network of millions of Web servers and browsers connected by hypertext transfer protocol (HTTP) and its many derivatives.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It is important to learn the language of the Internet before starting an e-commerce project.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e Internet and the Web have changed the way business and technology work together.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Slide Number Placeholder 4"/>
          <p:cNvSpPr/>
          <p:nvPr/>
        </p:nvSpPr>
        <p:spPr>
          <a:xfrm>
            <a:off x="655308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00"/>
                </a:solidFill>
                <a:latin typeface="Arial"/>
              </a:rPr>
              <a:t>3-</a:t>
            </a:r>
            <a:fld id="{46C9E16B-8E02-4827-B256-0D6314A27964}" type="slidenum">
              <a:rPr b="0" lang="en-US" sz="1400" spc="-1" strike="noStrike">
                <a:solidFill>
                  <a:srgbClr val="9966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Footer Placeholder 5"/>
          <p:cNvSpPr/>
          <p:nvPr/>
        </p:nvSpPr>
        <p:spPr>
          <a:xfrm>
            <a:off x="2666880" y="6381720"/>
            <a:ext cx="3810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Chapter 3 Learning objectives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How to design web pages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The steps required to make the design error free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Process for publishing web page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Process for hosting web page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Slide Number Placeholder 4"/>
          <p:cNvSpPr/>
          <p:nvPr/>
        </p:nvSpPr>
        <p:spPr>
          <a:xfrm>
            <a:off x="655308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00"/>
                </a:solidFill>
                <a:latin typeface="Arial"/>
              </a:rPr>
              <a:t>3-</a:t>
            </a:r>
            <a:fld id="{9D7E0832-2AD1-4445-90ED-0BFE5AA70FE6}" type="slidenum">
              <a:rPr b="0" lang="en-US" sz="1400" spc="-1" strike="noStrike">
                <a:solidFill>
                  <a:srgbClr val="9966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Footer Placeholder 5"/>
          <p:cNvSpPr/>
          <p:nvPr/>
        </p:nvSpPr>
        <p:spPr>
          <a:xfrm>
            <a:off x="2666880" y="6381720"/>
            <a:ext cx="3810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What Is a Network?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 connection between at least two computers for the purpose of sharing resources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ll networks are based on the concept of sharing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Slide Number Placeholder 4"/>
          <p:cNvSpPr/>
          <p:nvPr/>
        </p:nvSpPr>
        <p:spPr>
          <a:xfrm>
            <a:off x="655308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00"/>
                </a:solidFill>
                <a:latin typeface="Arial"/>
              </a:rPr>
              <a:t>3-</a:t>
            </a:r>
            <a:fld id="{9491E7A4-0E2F-4A03-A2D4-3C0F14061E6C}" type="slidenum">
              <a:rPr b="0" lang="en-US" sz="1400" spc="-1" strike="noStrike">
                <a:solidFill>
                  <a:srgbClr val="9966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Footer Placeholder 5"/>
          <p:cNvSpPr/>
          <p:nvPr/>
        </p:nvSpPr>
        <p:spPr>
          <a:xfrm>
            <a:off x="2666880" y="6381720"/>
            <a:ext cx="3810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Types of Networks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eer-to-Peer Networks are the linking of several PCs so that each acts as a peer, sharing and exchanging information without the need for a centralized server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ent / Server Networks are a cluster of computers (called clients) connected to one or more servers to form a network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Slide Number Placeholder 4"/>
          <p:cNvSpPr/>
          <p:nvPr/>
        </p:nvSpPr>
        <p:spPr>
          <a:xfrm>
            <a:off x="655308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00"/>
                </a:solidFill>
                <a:latin typeface="Arial"/>
              </a:rPr>
              <a:t>3-</a:t>
            </a:r>
            <a:fld id="{A0478302-B380-4745-9D44-7D21AB188C7E}" type="slidenum">
              <a:rPr b="0" lang="en-US" sz="1400" spc="-1" strike="noStrike">
                <a:solidFill>
                  <a:srgbClr val="9966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Footer Placeholder 5"/>
          <p:cNvSpPr/>
          <p:nvPr/>
        </p:nvSpPr>
        <p:spPr>
          <a:xfrm>
            <a:off x="2666880" y="6381720"/>
            <a:ext cx="3810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Peer-to-Peer Networks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omputers are linked together as equals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No centralized server or contro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ny computer can share its resources with any other computer on the same network in any way and whenever it chooses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Users are network administrators in that they control access to the resources residing on their own computer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an result in institutionalized chaos, and security can be a problem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Slide Number Placeholder 4"/>
          <p:cNvSpPr/>
          <p:nvPr/>
        </p:nvSpPr>
        <p:spPr>
          <a:xfrm>
            <a:off x="655308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00"/>
                </a:solidFill>
                <a:latin typeface="Arial"/>
              </a:rPr>
              <a:t>3-</a:t>
            </a:r>
            <a:fld id="{157B1229-6345-49F1-AC2B-1C912308302E}" type="slidenum">
              <a:rPr b="0" lang="en-US" sz="1400" spc="-1" strike="noStrike">
                <a:solidFill>
                  <a:srgbClr val="9966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Footer Placeholder 5"/>
          <p:cNvSpPr/>
          <p:nvPr/>
        </p:nvSpPr>
        <p:spPr>
          <a:xfrm>
            <a:off x="2666880" y="6381720"/>
            <a:ext cx="3810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Peer-to-Peer Networks (</a:t>
            </a:r>
            <a:r>
              <a:rPr b="1" i="1" lang="en-US" sz="4400" spc="-1" strike="noStrike">
                <a:solidFill>
                  <a:srgbClr val="996633"/>
                </a:solidFill>
                <a:latin typeface="Garamond"/>
              </a:rPr>
              <a:t>cont'd</a:t>
            </a: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)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tup usually connects fewer than 10 computer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s the number of users increases, the peer-to-peer environment becomes impractica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Slide Number Placeholder 4"/>
          <p:cNvSpPr/>
          <p:nvPr/>
        </p:nvSpPr>
        <p:spPr>
          <a:xfrm>
            <a:off x="655308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00"/>
                </a:solidFill>
                <a:latin typeface="Arial"/>
              </a:rPr>
              <a:t>3-</a:t>
            </a:r>
            <a:fld id="{CCE7757F-1C50-4886-B62D-445370CB53A0}" type="slidenum">
              <a:rPr b="0" lang="en-US" sz="1400" spc="-1" strike="noStrike">
                <a:solidFill>
                  <a:srgbClr val="9966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Footer Placeholder 5"/>
          <p:cNvSpPr/>
          <p:nvPr/>
        </p:nvSpPr>
        <p:spPr>
          <a:xfrm>
            <a:off x="2666880" y="6381720"/>
            <a:ext cx="3810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How to Pick a Domain Name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Pointer for picking domain names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If you sell bricks, pick a domain name containing a word like brick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Consider name length and ease of remembering the name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Hyphens to force search engines to see keywords in your domain name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Make sure the domain name is easy for Web users to remember and find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The domain name should suggest the nature of your product or service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The domain name should serve as a trademark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The domain name should be free of legal conflicts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Slide Number Placeholder 4"/>
          <p:cNvSpPr/>
          <p:nvPr/>
        </p:nvSpPr>
        <p:spPr>
          <a:xfrm>
            <a:off x="655308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00"/>
                </a:solidFill>
                <a:latin typeface="Arial"/>
              </a:rPr>
              <a:t>3-</a:t>
            </a:r>
            <a:fld id="{9C3092C3-E8D1-4A30-90F0-A6CF8DFBE604}" type="slidenum">
              <a:rPr b="0" lang="en-US" sz="1400" spc="-1" strike="noStrike">
                <a:solidFill>
                  <a:srgbClr val="9966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Footer Placeholder 5"/>
          <p:cNvSpPr/>
          <p:nvPr/>
        </p:nvSpPr>
        <p:spPr>
          <a:xfrm>
            <a:off x="2666880" y="6381720"/>
            <a:ext cx="3810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How to Register a Domain Name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heck if the domain name you propose has been taken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FasterWhois.com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One of the most popular and reliable registration sites is </a:t>
            </a:r>
            <a:r>
              <a:rPr b="1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internic.net/alpha.htm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4400" spc="-1" strike="noStrike">
                <a:solidFill>
                  <a:srgbClr val="996633"/>
                </a:solidFill>
                <a:latin typeface="Garamond"/>
              </a:rPr>
              <a:t>Contd..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400" spc="-1" strike="noStrike">
                <a:solidFill>
                  <a:srgbClr val="333399"/>
                </a:solidFill>
                <a:latin typeface="Arial"/>
              </a:rPr>
              <a:t>Webpage has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400" spc="-1" strike="noStrike">
                <a:solidFill>
                  <a:srgbClr val="333399"/>
                </a:solidFill>
                <a:latin typeface="Arial"/>
              </a:rPr>
              <a:t>GUI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400" spc="-1" strike="noStrike">
                <a:solidFill>
                  <a:srgbClr val="333399"/>
                </a:solidFill>
                <a:latin typeface="Arial"/>
              </a:rPr>
              <a:t>Back end server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400" spc="-1" strike="noStrike">
                <a:solidFill>
                  <a:srgbClr val="333399"/>
                </a:solidFill>
                <a:latin typeface="Arial"/>
              </a:rPr>
              <a:t>Combination of data and application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400" spc="-1" strike="noStrike">
                <a:solidFill>
                  <a:srgbClr val="333399"/>
                </a:solidFill>
                <a:latin typeface="Arial"/>
              </a:rPr>
              <a:t>Rule based protocol (</a:t>
            </a: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called the Hypertext Transfer Protocol (HTTP))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655308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00"/>
                </a:solidFill>
                <a:latin typeface="Arial"/>
              </a:rPr>
              <a:t>2-</a:t>
            </a:r>
            <a:fld id="{08B779BE-24CE-4AC2-B787-6D7EC05940CB}" type="slidenum">
              <a:rPr b="0" lang="en-US" sz="1400" spc="-1" strike="noStrike">
                <a:solidFill>
                  <a:srgbClr val="9966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ooter Placeholder 4"/>
          <p:cNvSpPr/>
          <p:nvPr/>
        </p:nvSpPr>
        <p:spPr>
          <a:xfrm>
            <a:off x="2666880" y="6381720"/>
            <a:ext cx="3810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Slide Number Placeholder 3"/>
          <p:cNvSpPr/>
          <p:nvPr/>
        </p:nvSpPr>
        <p:spPr>
          <a:xfrm>
            <a:off x="655308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00"/>
                </a:solidFill>
                <a:latin typeface="Arial"/>
              </a:rPr>
              <a:t>3-</a:t>
            </a:r>
            <a:fld id="{752D207E-A2A9-4358-86F3-423F4BDEC8A0}" type="slidenum">
              <a:rPr b="0" lang="en-US" sz="1400" spc="-1" strike="noStrike">
                <a:solidFill>
                  <a:srgbClr val="9966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Footer Placeholder 4"/>
          <p:cNvSpPr/>
          <p:nvPr/>
        </p:nvSpPr>
        <p:spPr>
          <a:xfrm>
            <a:off x="2666880" y="6381720"/>
            <a:ext cx="3810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33"/>
                </a:solidFill>
                <a:latin typeface="Garamond"/>
              </a:rPr>
              <a:t>Web page elements</a:t>
            </a:r>
            <a:endParaRPr b="1" lang="en-US" sz="4000" spc="-1" strike="noStrike">
              <a:solidFill>
                <a:srgbClr val="996633"/>
              </a:solidFill>
              <a:latin typeface="Garamond"/>
            </a:endParaRPr>
          </a:p>
        </p:txBody>
      </p:sp>
      <p:pic>
        <p:nvPicPr>
          <p:cNvPr id="405" name="Picture 5" descr="awad_fig03"/>
          <p:cNvPicPr/>
          <p:nvPr/>
        </p:nvPicPr>
        <p:blipFill>
          <a:blip r:embed="rId1"/>
          <a:stretch/>
        </p:blipFill>
        <p:spPr>
          <a:xfrm>
            <a:off x="1219320" y="1525680"/>
            <a:ext cx="7619760" cy="47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4400" spc="-1" strike="noStrike">
                <a:solidFill>
                  <a:srgbClr val="996633"/>
                </a:solidFill>
                <a:latin typeface="Garamond"/>
              </a:rPr>
              <a:t>Designing web page elements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web browser displays ASCII text file with extensions .htm or .htm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offline web page are to be prepared firs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web server and internet connection not required immediately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Initially original formatting is not seen 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display of final web page done such that laptops, desktops with different screen sizes can see all the web pages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655308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00"/>
                </a:solidFill>
                <a:latin typeface="Arial"/>
              </a:rPr>
              <a:t>2-</a:t>
            </a:r>
            <a:fld id="{EFEEE61E-CE8B-452F-9DD9-2F8105E87606}" type="slidenum">
              <a:rPr b="0" lang="en-US" sz="1400" spc="-1" strike="noStrike">
                <a:solidFill>
                  <a:srgbClr val="9966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Footer Placeholder 4"/>
          <p:cNvSpPr/>
          <p:nvPr/>
        </p:nvSpPr>
        <p:spPr>
          <a:xfrm>
            <a:off x="2666880" y="6381720"/>
            <a:ext cx="3810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3600" spc="-1" strike="noStrike">
                <a:solidFill>
                  <a:srgbClr val="996633"/>
                </a:solidFill>
                <a:latin typeface="Garamond"/>
              </a:rPr>
              <a:t>Designing web page elements Contd..</a:t>
            </a:r>
            <a:endParaRPr b="1" lang="en-US" sz="36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four basic elements that should be presented in any web page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HTML, HEAD, TITAL and BODY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HTML : This contains information that the web browser should know about the web page such as title 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&lt;HEAD&gt; This information is not displayed in the browser’s web page display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&lt;TITLE&gt; This information is displayed in the browser window’s title bar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&lt;BODY&gt; This information is displayed in the browser’s web page display (both text and graphics)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2" name="Slide Number Placeholder 3"/>
          <p:cNvSpPr/>
          <p:nvPr/>
        </p:nvSpPr>
        <p:spPr>
          <a:xfrm>
            <a:off x="655308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00"/>
                </a:solidFill>
                <a:latin typeface="Arial"/>
              </a:rPr>
              <a:t>2-</a:t>
            </a:r>
            <a:fld id="{DF27B178-7227-40FC-88ED-96F481551876}" type="slidenum">
              <a:rPr b="0" lang="en-US" sz="1400" spc="-1" strike="noStrike">
                <a:solidFill>
                  <a:srgbClr val="9966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Footer Placeholder 4"/>
          <p:cNvSpPr/>
          <p:nvPr/>
        </p:nvSpPr>
        <p:spPr>
          <a:xfrm>
            <a:off x="2666880" y="6381720"/>
            <a:ext cx="3810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3600" spc="-1" strike="noStrike">
                <a:solidFill>
                  <a:srgbClr val="996633"/>
                </a:solidFill>
                <a:latin typeface="Garamond"/>
              </a:rPr>
              <a:t>Web page development life cycle</a:t>
            </a:r>
            <a:endParaRPr b="1" lang="en-US" sz="36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400" spc="-1" strike="noStrike">
                <a:solidFill>
                  <a:srgbClr val="333399"/>
                </a:solidFill>
                <a:latin typeface="Arial"/>
              </a:rPr>
              <a:t>Stages in life cycle are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1) Prepare a file with .HTM or &gt;HTML extension and save it to your hard disk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(2) Open the file through browser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(3) Review the web page and 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(4) Rework on the page using a text editor or HTML editor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Formatting, 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troubleshooting, 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Publishing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Installing on a web server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6" name="Slide Number Placeholder 3"/>
          <p:cNvSpPr/>
          <p:nvPr/>
        </p:nvSpPr>
        <p:spPr>
          <a:xfrm>
            <a:off x="655308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00"/>
                </a:solidFill>
                <a:latin typeface="Arial"/>
              </a:rPr>
              <a:t>2-</a:t>
            </a:r>
            <a:fld id="{0BA4B1DF-75ED-4CD6-B614-2DBB127A26C6}" type="slidenum">
              <a:rPr b="0" lang="en-US" sz="1400" spc="-1" strike="noStrike">
                <a:solidFill>
                  <a:srgbClr val="9966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Footer Placeholder 4"/>
          <p:cNvSpPr/>
          <p:nvPr/>
        </p:nvSpPr>
        <p:spPr>
          <a:xfrm>
            <a:off x="2666880" y="6381720"/>
            <a:ext cx="3810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4400" spc="-1" strike="noStrike">
                <a:solidFill>
                  <a:srgbClr val="996633"/>
                </a:solidFill>
                <a:latin typeface="Garamond"/>
              </a:rPr>
              <a:t>Web publishing steps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mode of access to web page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DNS address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Path Name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Uploading the files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Find the UR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Final Touch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N" sz="2400" spc="-1" strike="noStrike">
                <a:solidFill>
                  <a:srgbClr val="333399"/>
                </a:solidFill>
                <a:latin typeface="Arial"/>
              </a:rPr>
              <a:t>{GIVE A SAMPLE OF CODE AS GIVEN IN THE TEXT}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0" name="Slide Number Placeholder 3"/>
          <p:cNvSpPr/>
          <p:nvPr/>
        </p:nvSpPr>
        <p:spPr>
          <a:xfrm>
            <a:off x="655308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00"/>
                </a:solidFill>
                <a:latin typeface="Arial"/>
              </a:rPr>
              <a:t>2-</a:t>
            </a:r>
            <a:fld id="{09FC3A98-2BCC-4CEA-AB07-1E7B5DC733FF}" type="slidenum">
              <a:rPr b="0" lang="en-US" sz="1400" spc="-1" strike="noStrike">
                <a:solidFill>
                  <a:srgbClr val="9966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Footer Placeholder 4"/>
          <p:cNvSpPr/>
          <p:nvPr/>
        </p:nvSpPr>
        <p:spPr>
          <a:xfrm>
            <a:off x="2666880" y="6381720"/>
            <a:ext cx="3810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4400" spc="-1" strike="noStrike">
                <a:solidFill>
                  <a:srgbClr val="996633"/>
                </a:solidFill>
                <a:latin typeface="Garamond"/>
              </a:rPr>
              <a:t>Legal and Ethical Issues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400" spc="-1" strike="noStrike">
                <a:solidFill>
                  <a:srgbClr val="333399"/>
                </a:solidFill>
                <a:latin typeface="Arial"/>
              </a:rPr>
              <a:t>Following considerations need to be made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Are the files being published have already been published elsewhere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Are the files being published are modified versions of already existing and published files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Are the materials to be published are excerpts of existing materials (already published somewhere else)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Are there sufficient permissions to download the materials and then publish them as mine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Can the pictures and figures that have been published by someone else and available in the public domain be made available by another publisher (in partial or full display)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4" name="Slide Number Placeholder 3"/>
          <p:cNvSpPr/>
          <p:nvPr/>
        </p:nvSpPr>
        <p:spPr>
          <a:xfrm>
            <a:off x="655308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00"/>
                </a:solidFill>
                <a:latin typeface="Arial"/>
              </a:rPr>
              <a:t>2-</a:t>
            </a:r>
            <a:fld id="{AAE0E940-BD06-4615-8F33-E1441C87360C}" type="slidenum">
              <a:rPr b="0" lang="en-US" sz="1400" spc="-1" strike="noStrike">
                <a:solidFill>
                  <a:srgbClr val="9966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Footer Placeholder 4"/>
          <p:cNvSpPr/>
          <p:nvPr/>
        </p:nvSpPr>
        <p:spPr>
          <a:xfrm>
            <a:off x="2666880" y="6381720"/>
            <a:ext cx="3810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4400" spc="-1" strike="noStrike">
                <a:solidFill>
                  <a:srgbClr val="996633"/>
                </a:solidFill>
                <a:latin typeface="Garamond"/>
              </a:rPr>
              <a:t>Plagiarism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400" spc="-1" strike="noStrike">
                <a:solidFill>
                  <a:srgbClr val="333399"/>
                </a:solidFill>
                <a:latin typeface="Arial"/>
              </a:rPr>
              <a:t>Tools can be used for checking plagiarism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400" spc="-1" strike="noStrike">
                <a:solidFill>
                  <a:srgbClr val="333399"/>
                </a:solidFill>
                <a:latin typeface="Arial"/>
              </a:rPr>
              <a:t>Check before publishing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400" spc="-1" strike="noStrike">
                <a:solidFill>
                  <a:srgbClr val="333399"/>
                </a:solidFill>
                <a:latin typeface="Arial"/>
              </a:rPr>
              <a:t>Websites that offer plagiarism services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9999"/>
                </a:solidFill>
                <a:uFillTx/>
                <a:latin typeface="Arial"/>
              </a:rPr>
              <a:t>www.plagiarism-detector.com,www.writecheck.com,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9999"/>
                </a:solidFill>
                <a:uFillTx/>
                <a:latin typeface="Arial"/>
              </a:rPr>
              <a:t>www.plagiarismchecker.com,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9999"/>
                </a:solidFill>
                <a:uFillTx/>
                <a:latin typeface="Arial"/>
              </a:rPr>
              <a:t>www.dustball.com</a:t>
            </a: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, 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plagiarisma.net</a:t>
            </a: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8" name="Slide Number Placeholder 3"/>
          <p:cNvSpPr/>
          <p:nvPr/>
        </p:nvSpPr>
        <p:spPr>
          <a:xfrm>
            <a:off x="655308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00"/>
                </a:solidFill>
                <a:latin typeface="Arial"/>
              </a:rPr>
              <a:t>2-</a:t>
            </a:r>
            <a:fld id="{6EFB7402-3207-46CF-9112-C5FA34BB30DD}" type="slidenum">
              <a:rPr b="0" lang="en-US" sz="1400" spc="-1" strike="noStrike">
                <a:solidFill>
                  <a:srgbClr val="9966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Footer Placeholder 4"/>
          <p:cNvSpPr/>
          <p:nvPr/>
        </p:nvSpPr>
        <p:spPr>
          <a:xfrm>
            <a:off x="2666880" y="6381720"/>
            <a:ext cx="3810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4400" spc="-1" strike="noStrike">
                <a:solidFill>
                  <a:srgbClr val="996633"/>
                </a:solidFill>
                <a:latin typeface="Garamond"/>
              </a:rPr>
              <a:t>Copyright Issues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000" spc="-1" strike="noStrike">
                <a:solidFill>
                  <a:srgbClr val="333399"/>
                </a:solidFill>
                <a:latin typeface="Arial"/>
              </a:rPr>
              <a:t>Copyright is a right given by the law to creators of literary, dramatic, musical and artistic works and producers of cinematograph films and sound recordings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000" spc="-1" strike="noStrike">
                <a:solidFill>
                  <a:srgbClr val="333399"/>
                </a:solidFill>
                <a:latin typeface="Arial"/>
              </a:rPr>
              <a:t>Copyright ensures certain minimum safeguards of the rights of authors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000" spc="-1" strike="noStrike">
                <a:solidFill>
                  <a:srgbClr val="333399"/>
                </a:solidFill>
                <a:latin typeface="Arial"/>
              </a:rPr>
              <a:t>Some of the exemptions are the uses of the work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800" spc="-1" strike="noStrike">
                <a:solidFill>
                  <a:srgbClr val="333399"/>
                </a:solidFill>
                <a:latin typeface="Arial"/>
              </a:rPr>
              <a:t>for the purpose of research or private study,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800" spc="-1" strike="noStrike">
                <a:solidFill>
                  <a:srgbClr val="333399"/>
                </a:solidFill>
                <a:latin typeface="Arial"/>
              </a:rPr>
              <a:t>for criticism or review,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800" spc="-1" strike="noStrike">
                <a:solidFill>
                  <a:srgbClr val="333399"/>
                </a:solidFill>
                <a:latin typeface="Arial"/>
              </a:rPr>
              <a:t>for reporting current events,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800" spc="-1" strike="noStrike">
                <a:solidFill>
                  <a:srgbClr val="333399"/>
                </a:solidFill>
                <a:latin typeface="Arial"/>
              </a:rPr>
              <a:t>in connection with judicial proceeding,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800" spc="-1" strike="noStrike">
                <a:solidFill>
                  <a:srgbClr val="333399"/>
                </a:solidFill>
                <a:latin typeface="Arial"/>
              </a:rPr>
              <a:t>performance by an amateur club or society if the performance is given to a non-paying audience, and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800" spc="-1" strike="noStrike">
                <a:solidFill>
                  <a:srgbClr val="333399"/>
                </a:solidFill>
                <a:latin typeface="Arial"/>
              </a:rPr>
              <a:t>the making of sound recordings of literary, dramatic or musical works under certain conditions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2" name="Slide Number Placeholder 3"/>
          <p:cNvSpPr/>
          <p:nvPr/>
        </p:nvSpPr>
        <p:spPr>
          <a:xfrm>
            <a:off x="655308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00"/>
                </a:solidFill>
                <a:latin typeface="Arial"/>
              </a:rPr>
              <a:t>2-</a:t>
            </a:r>
            <a:fld id="{98C86963-F166-40DB-8CE6-ECF31657AD5C}" type="slidenum">
              <a:rPr b="0" lang="en-US" sz="1400" spc="-1" strike="noStrike">
                <a:solidFill>
                  <a:srgbClr val="9966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Footer Placeholder 4"/>
          <p:cNvSpPr/>
          <p:nvPr/>
        </p:nvSpPr>
        <p:spPr>
          <a:xfrm>
            <a:off x="2666880" y="6381720"/>
            <a:ext cx="3810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4400" spc="-1" strike="noStrike">
                <a:solidFill>
                  <a:srgbClr val="996633"/>
                </a:solidFill>
                <a:latin typeface="Garamond"/>
              </a:rPr>
              <a:t>Terms used in copyright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400" spc="-1" strike="noStrike">
                <a:solidFill>
                  <a:srgbClr val="333399"/>
                </a:solidFill>
                <a:latin typeface="Arial"/>
              </a:rPr>
              <a:t>Work : </a:t>
            </a:r>
            <a:r>
              <a:rPr b="1" lang="en-IN" sz="2000" spc="-1" strike="noStrike">
                <a:solidFill>
                  <a:srgbClr val="333399"/>
                </a:solidFill>
                <a:latin typeface="Arial"/>
              </a:rPr>
              <a:t>A work means a literary, dramatic, musical or artistic work, a cinematograph film, or a sound recording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400" spc="-1" strike="noStrike">
                <a:solidFill>
                  <a:srgbClr val="333399"/>
                </a:solidFill>
                <a:latin typeface="Arial"/>
              </a:rPr>
              <a:t>work of joint authorship: </a:t>
            </a:r>
            <a:r>
              <a:rPr b="1" lang="en-IN" sz="2000" spc="-1" strike="noStrike">
                <a:solidFill>
                  <a:srgbClr val="333399"/>
                </a:solidFill>
                <a:latin typeface="Arial"/>
              </a:rPr>
              <a:t>work produced by the collaboration of two or more authors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000" spc="-1" strike="noStrike">
                <a:solidFill>
                  <a:srgbClr val="333399"/>
                </a:solidFill>
                <a:latin typeface="Arial"/>
              </a:rPr>
              <a:t>What is an artistic work : 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600" spc="-1" strike="noStrike">
                <a:solidFill>
                  <a:srgbClr val="333399"/>
                </a:solidFill>
                <a:latin typeface="Arial"/>
              </a:rPr>
              <a:t>a painting, a sculpture, a drawing (including a diagram, map, chart or plan), an engraving or a photograph, whether or not any such work possesses artistic quality;</a:t>
            </a:r>
            <a:endParaRPr b="1" lang="en-US" sz="16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600" spc="-1" strike="noStrike">
                <a:solidFill>
                  <a:srgbClr val="333399"/>
                </a:solidFill>
                <a:latin typeface="Arial"/>
              </a:rPr>
              <a:t>a work of architecture; and</a:t>
            </a:r>
            <a:endParaRPr b="1" lang="en-US" sz="16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600" spc="-1" strike="noStrike">
                <a:solidFill>
                  <a:srgbClr val="333399"/>
                </a:solidFill>
                <a:latin typeface="Arial"/>
              </a:rPr>
              <a:t>any other work of artistic craftsmanship</a:t>
            </a:r>
            <a:endParaRPr b="1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000" spc="-1" strike="noStrike">
                <a:solidFill>
                  <a:srgbClr val="333399"/>
                </a:solidFill>
                <a:latin typeface="Arial"/>
              </a:rPr>
              <a:t>musical work: </a:t>
            </a:r>
            <a:r>
              <a:rPr b="1" lang="en-IN" sz="1600" spc="-1" strike="noStrike">
                <a:solidFill>
                  <a:srgbClr val="333399"/>
                </a:solidFill>
                <a:latin typeface="Arial"/>
              </a:rPr>
              <a:t>work consisting of music and includes any graphical notation of such work</a:t>
            </a:r>
            <a:endParaRPr b="1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000" spc="-1" strike="noStrike">
                <a:solidFill>
                  <a:srgbClr val="333399"/>
                </a:solidFill>
                <a:latin typeface="Arial"/>
              </a:rPr>
              <a:t>sound recording: </a:t>
            </a:r>
            <a:r>
              <a:rPr b="1" lang="en-IN" sz="1400" spc="-1" strike="noStrike">
                <a:solidFill>
                  <a:srgbClr val="333399"/>
                </a:solidFill>
                <a:latin typeface="Arial"/>
              </a:rPr>
              <a:t>recording of sounds from which sounds may be produced regardless of the medium</a:t>
            </a:r>
            <a:endParaRPr b="1" lang="en-US" sz="1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6" name="Slide Number Placeholder 3"/>
          <p:cNvSpPr/>
          <p:nvPr/>
        </p:nvSpPr>
        <p:spPr>
          <a:xfrm>
            <a:off x="655308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00"/>
                </a:solidFill>
                <a:latin typeface="Arial"/>
              </a:rPr>
              <a:t>2-</a:t>
            </a:r>
            <a:fld id="{69E85A5E-4B4D-4721-9EBF-528A36045C92}" type="slidenum">
              <a:rPr b="0" lang="en-US" sz="1400" spc="-1" strike="noStrike">
                <a:solidFill>
                  <a:srgbClr val="9966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Footer Placeholder 4"/>
          <p:cNvSpPr/>
          <p:nvPr/>
        </p:nvSpPr>
        <p:spPr>
          <a:xfrm>
            <a:off x="2666880" y="6381720"/>
            <a:ext cx="3810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4400" spc="-1" strike="noStrike">
                <a:solidFill>
                  <a:srgbClr val="996633"/>
                </a:solidFill>
                <a:latin typeface="Garamond"/>
              </a:rPr>
              <a:t>Terms used in copyright..contd..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400" spc="-1" strike="noStrike">
                <a:solidFill>
                  <a:srgbClr val="333399"/>
                </a:solidFill>
                <a:latin typeface="Arial"/>
              </a:rPr>
              <a:t>cinematograph film; work of visual recording on any medium 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400" spc="-1" strike="noStrike">
                <a:solidFill>
                  <a:srgbClr val="333399"/>
                </a:solidFill>
                <a:latin typeface="Arial"/>
              </a:rPr>
              <a:t>government work: work which is made or published by or under the direction or control of the government or any department of the governmen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0" name="Slide Number Placeholder 3"/>
          <p:cNvSpPr/>
          <p:nvPr/>
        </p:nvSpPr>
        <p:spPr>
          <a:xfrm>
            <a:off x="655308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00"/>
                </a:solidFill>
                <a:latin typeface="Arial"/>
              </a:rPr>
              <a:t>2-</a:t>
            </a:r>
            <a:fld id="{30FD99FC-C908-4005-88E8-305C658F856E}" type="slidenum">
              <a:rPr b="0" lang="en-US" sz="1400" spc="-1" strike="noStrike">
                <a:solidFill>
                  <a:srgbClr val="9966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Footer Placeholder 4"/>
          <p:cNvSpPr/>
          <p:nvPr/>
        </p:nvSpPr>
        <p:spPr>
          <a:xfrm>
            <a:off x="2666880" y="6381720"/>
            <a:ext cx="3810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4400" spc="-1" strike="noStrike">
                <a:solidFill>
                  <a:srgbClr val="996633"/>
                </a:solidFill>
                <a:latin typeface="Garamond"/>
              </a:rPr>
              <a:t>Architecture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Internet is a combination several networks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networks are connected through routers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These routers are connected through Internet Service Providers (ISP)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transfer information through packets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internet is on layered model - Transmission Control Protocol/ Internet Protocol (TCP/IP)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655308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00"/>
                </a:solidFill>
                <a:latin typeface="Arial"/>
              </a:rPr>
              <a:t>2-</a:t>
            </a:r>
            <a:fld id="{0E73DFEA-2BF8-416B-B0FD-556FA52B5884}" type="slidenum">
              <a:rPr b="0" lang="en-US" sz="1400" spc="-1" strike="noStrike">
                <a:solidFill>
                  <a:srgbClr val="9966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ooter Placeholder 4"/>
          <p:cNvSpPr/>
          <p:nvPr/>
        </p:nvSpPr>
        <p:spPr>
          <a:xfrm>
            <a:off x="2666880" y="6381720"/>
            <a:ext cx="3810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4400" spc="-1" strike="noStrike">
                <a:solidFill>
                  <a:srgbClr val="996633"/>
                </a:solidFill>
                <a:latin typeface="Garamond"/>
              </a:rPr>
              <a:t>Terms used in copyright..contd..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400" spc="-1" strike="noStrike">
                <a:solidFill>
                  <a:srgbClr val="333399"/>
                </a:solidFill>
                <a:latin typeface="Arial"/>
              </a:rPr>
              <a:t>MORAL RIGHTS: the right to claim authorship of the work and to restrain or claim damages in respect of any modification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400" spc="-1" strike="noStrike">
                <a:solidFill>
                  <a:srgbClr val="333399"/>
                </a:solidFill>
                <a:latin typeface="Arial"/>
              </a:rPr>
              <a:t>The moral rights are independent of the author’s copyright and remains with him even after assignment of the copyrigh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400" spc="-1" strike="noStrike">
                <a:solidFill>
                  <a:srgbClr val="333399"/>
                </a:solidFill>
                <a:latin typeface="Arial"/>
              </a:rPr>
              <a:t>Failure to display a work or to display it to the satisfaction of the author shall not be deemed to be an infringement of the moral rights of the author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655308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00"/>
                </a:solidFill>
                <a:latin typeface="Arial"/>
              </a:rPr>
              <a:t>2-</a:t>
            </a:r>
            <a:fld id="{F6630B9F-2F43-4C99-BF36-5AFB48C279C0}" type="slidenum">
              <a:rPr b="0" lang="en-US" sz="1400" spc="-1" strike="noStrike">
                <a:solidFill>
                  <a:srgbClr val="9966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Footer Placeholder 4"/>
          <p:cNvSpPr/>
          <p:nvPr/>
        </p:nvSpPr>
        <p:spPr>
          <a:xfrm>
            <a:off x="2666880" y="6381720"/>
            <a:ext cx="3810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Slide Number Placeholder 4"/>
          <p:cNvSpPr/>
          <p:nvPr/>
        </p:nvSpPr>
        <p:spPr>
          <a:xfrm>
            <a:off x="655308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00"/>
                </a:solidFill>
                <a:latin typeface="Arial"/>
              </a:rPr>
              <a:t>3-</a:t>
            </a:r>
            <a:fld id="{8DD40B58-07AF-40F3-A4B0-4A487C7B9815}" type="slidenum">
              <a:rPr b="0" lang="en-US" sz="1400" spc="-1" strike="noStrike">
                <a:solidFill>
                  <a:srgbClr val="9966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Footer Placeholder 5"/>
          <p:cNvSpPr/>
          <p:nvPr/>
        </p:nvSpPr>
        <p:spPr>
          <a:xfrm>
            <a:off x="2666880" y="6381720"/>
            <a:ext cx="3810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E-Commerce Issues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inancial Exposure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IP Exposure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Legal Security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acket Sniffing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irewalls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IPSec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Intrusion Detection Systems (IDS)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Slide Number Placeholder 4"/>
          <p:cNvSpPr/>
          <p:nvPr/>
        </p:nvSpPr>
        <p:spPr>
          <a:xfrm>
            <a:off x="655308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00"/>
                </a:solidFill>
                <a:latin typeface="Arial"/>
              </a:rPr>
              <a:t>3-</a:t>
            </a:r>
            <a:fld id="{2E85308A-3752-48BC-9720-B0A4BBDD2786}" type="slidenum">
              <a:rPr b="0" lang="en-US" sz="1400" spc="-1" strike="noStrike">
                <a:solidFill>
                  <a:srgbClr val="9966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Footer Placeholder 5"/>
          <p:cNvSpPr/>
          <p:nvPr/>
        </p:nvSpPr>
        <p:spPr>
          <a:xfrm>
            <a:off x="2666880" y="6381720"/>
            <a:ext cx="3810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Summary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990720" y="121896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To communicate over a line, you need a modem, which converts incoming analog signals into digital signals.</a:t>
            </a:r>
            <a:endParaRPr b="1" lang="en-US" sz="2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Several factors need to be considered in designing a network:  location, capacity, distance limitations, cost, potential growth, and security.</a:t>
            </a:r>
            <a:endParaRPr b="1" lang="en-US" sz="2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Web page publication should follow proper steps</a:t>
            </a:r>
            <a:endParaRPr b="1" lang="en-US" sz="2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Plagiarism check should be done (using tools)</a:t>
            </a:r>
            <a:endParaRPr b="1" lang="en-US" sz="2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Copyright issues and moral issues should be taken care of while publishing</a:t>
            </a:r>
            <a:endParaRPr b="1" lang="en-US" sz="2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4400" spc="-1" strike="noStrike">
                <a:solidFill>
                  <a:srgbClr val="996633"/>
                </a:solidFill>
                <a:latin typeface="Garamond"/>
              </a:rPr>
              <a:t>Network diagram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655308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00"/>
                </a:solidFill>
                <a:latin typeface="Arial"/>
              </a:rPr>
              <a:t>2-</a:t>
            </a:r>
            <a:fld id="{7EBD2FCF-1E13-4F9D-97B7-04D0ACD0E24B}" type="slidenum">
              <a:rPr b="0" lang="en-US" sz="1400" spc="-1" strike="noStrike">
                <a:solidFill>
                  <a:srgbClr val="9966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ooter Placeholder 4"/>
          <p:cNvSpPr/>
          <p:nvPr/>
        </p:nvSpPr>
        <p:spPr>
          <a:xfrm>
            <a:off x="2666880" y="6381720"/>
            <a:ext cx="3810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Group 3"/>
          <p:cNvGrpSpPr/>
          <p:nvPr/>
        </p:nvGrpSpPr>
        <p:grpSpPr>
          <a:xfrm>
            <a:off x="1295280" y="1752480"/>
            <a:ext cx="7010640" cy="4206960"/>
            <a:chOff x="1295280" y="1752480"/>
            <a:chExt cx="7010640" cy="4206960"/>
          </a:xfrm>
        </p:grpSpPr>
        <p:sp>
          <p:nvSpPr>
            <p:cNvPr id="203" name="AutoShape 24"/>
            <p:cNvSpPr/>
            <p:nvPr/>
          </p:nvSpPr>
          <p:spPr>
            <a:xfrm>
              <a:off x="1295280" y="1752480"/>
              <a:ext cx="7010640" cy="4206960"/>
            </a:xfrm>
            <a:prstGeom prst="octagon">
              <a:avLst>
                <a:gd name="adj" fmla="val 2928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AutoShape 23"/>
            <p:cNvSpPr/>
            <p:nvPr/>
          </p:nvSpPr>
          <p:spPr>
            <a:xfrm>
              <a:off x="2180160" y="2596680"/>
              <a:ext cx="2003760" cy="664200"/>
            </a:xfrm>
            <a:prstGeom prst="flowChartAlternate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Network no.1</a:t>
              </a:r>
              <a:endParaRPr b="0" i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AutoShape 22"/>
            <p:cNvSpPr/>
            <p:nvPr/>
          </p:nvSpPr>
          <p:spPr>
            <a:xfrm>
              <a:off x="4183920" y="4018680"/>
              <a:ext cx="2003760" cy="663840"/>
            </a:xfrm>
            <a:prstGeom prst="flowChartAlternate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Internet Service Provider</a:t>
              </a:r>
              <a:endParaRPr b="0" i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AutoShape 21"/>
            <p:cNvSpPr/>
            <p:nvPr/>
          </p:nvSpPr>
          <p:spPr>
            <a:xfrm>
              <a:off x="5210280" y="2725200"/>
              <a:ext cx="2002680" cy="663840"/>
            </a:xfrm>
            <a:prstGeom prst="flowChartAlternate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Network no.2</a:t>
              </a:r>
              <a:endParaRPr b="0" i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AutoShape 20"/>
            <p:cNvSpPr/>
            <p:nvPr/>
          </p:nvSpPr>
          <p:spPr>
            <a:xfrm>
              <a:off x="4733280" y="5124960"/>
              <a:ext cx="2003760" cy="664200"/>
            </a:xfrm>
            <a:prstGeom prst="flowChartAlternate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Network No.3</a:t>
              </a:r>
              <a:endParaRPr b="0" i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AutoShape 19"/>
            <p:cNvSpPr/>
            <p:nvPr/>
          </p:nvSpPr>
          <p:spPr>
            <a:xfrm>
              <a:off x="1623240" y="4111200"/>
              <a:ext cx="1535400" cy="663840"/>
            </a:xfrm>
            <a:prstGeom prst="flowChartAlternate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Modem</a:t>
              </a:r>
              <a:endParaRPr b="0" i="1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ADSL</a:t>
              </a:r>
              <a:endParaRPr b="0" i="1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Dedicated Connection</a:t>
              </a:r>
              <a:endParaRPr b="0" i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AutoShape 18"/>
            <p:cNvSpPr/>
            <p:nvPr/>
          </p:nvSpPr>
          <p:spPr>
            <a:xfrm>
              <a:off x="3299040" y="3389400"/>
              <a:ext cx="501120" cy="51228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AutoShape 17"/>
            <p:cNvSpPr/>
            <p:nvPr/>
          </p:nvSpPr>
          <p:spPr>
            <a:xfrm>
              <a:off x="6455520" y="3505320"/>
              <a:ext cx="501120" cy="51300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1" name="AutoShape 16"/>
            <p:cNvCxnSpPr/>
            <p:nvPr/>
          </p:nvCxnSpPr>
          <p:spPr>
            <a:xfrm flipH="1">
              <a:off x="2391120" y="3260520"/>
              <a:ext cx="791280" cy="850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stealth" w="med"/>
              <a:tailEnd len="med" type="triangle" w="med"/>
            </a:ln>
          </p:spPr>
        </p:cxnSp>
        <p:cxnSp>
          <p:nvCxnSpPr>
            <p:cNvPr id="212" name="AutoShape 15"/>
            <p:cNvCxnSpPr/>
            <p:nvPr/>
          </p:nvCxnSpPr>
          <p:spPr>
            <a:xfrm flipH="1" flipV="1">
              <a:off x="2391120" y="4775400"/>
              <a:ext cx="2342160" cy="682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stealth" w="med"/>
              <a:tailEnd len="med" type="triangle" w="med"/>
            </a:ln>
          </p:spPr>
        </p:cxnSp>
        <p:cxnSp>
          <p:nvCxnSpPr>
            <p:cNvPr id="213" name="AutoShape 14"/>
            <p:cNvCxnSpPr/>
            <p:nvPr/>
          </p:nvCxnSpPr>
          <p:spPr>
            <a:xfrm flipH="1" flipV="1">
              <a:off x="2391120" y="4775040"/>
              <a:ext cx="148248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4" name="AutoShape 13"/>
            <p:cNvCxnSpPr/>
            <p:nvPr/>
          </p:nvCxnSpPr>
          <p:spPr>
            <a:xfrm>
              <a:off x="3727440" y="3826440"/>
              <a:ext cx="457200" cy="524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stealth" w="med"/>
              <a:tailEnd len="med" type="triangle" w="med"/>
            </a:ln>
          </p:spPr>
        </p:cxnSp>
        <p:cxnSp>
          <p:nvCxnSpPr>
            <p:cNvPr id="215" name="AutoShape 12"/>
            <p:cNvCxnSpPr/>
            <p:nvPr/>
          </p:nvCxnSpPr>
          <p:spPr>
            <a:xfrm flipH="1">
              <a:off x="2391120" y="3056760"/>
              <a:ext cx="4822560" cy="1054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stealth" w="med"/>
              <a:tailEnd len="med" type="triangle" w="med"/>
            </a:ln>
          </p:spPr>
        </p:cxnSp>
        <p:cxnSp>
          <p:nvCxnSpPr>
            <p:cNvPr id="216" name="AutoShape 11"/>
            <p:cNvCxnSpPr/>
            <p:nvPr/>
          </p:nvCxnSpPr>
          <p:spPr>
            <a:xfrm flipV="1">
              <a:off x="3181680" y="3900960"/>
              <a:ext cx="392040" cy="541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stealth" w="med"/>
              <a:tailEnd len="med" type="triangle" w="med"/>
            </a:ln>
          </p:spPr>
        </p:cxnSp>
        <p:cxnSp>
          <p:nvCxnSpPr>
            <p:cNvPr id="217" name="AutoShape 10"/>
            <p:cNvCxnSpPr/>
            <p:nvPr/>
          </p:nvCxnSpPr>
          <p:spPr>
            <a:xfrm flipH="1" flipV="1" rot="5400000">
              <a:off x="4219920" y="2112480"/>
              <a:ext cx="833040" cy="4492440"/>
            </a:xfrm>
            <a:prstGeom prst="bentConnector3">
              <a:avLst>
                <a:gd name="adj1" fmla="val -33506"/>
              </a:avLst>
            </a:prstGeom>
            <a:ln w="9360">
              <a:solidFill>
                <a:srgbClr val="000000"/>
              </a:solidFill>
              <a:miter/>
              <a:headEnd len="med" type="stealth" w="med"/>
              <a:tailEnd len="med" type="triangle" w="med"/>
            </a:ln>
          </p:spPr>
        </p:cxnSp>
        <p:cxnSp>
          <p:nvCxnSpPr>
            <p:cNvPr id="218" name="AutoShape 9"/>
            <p:cNvCxnSpPr/>
            <p:nvPr/>
          </p:nvCxnSpPr>
          <p:spPr>
            <a:xfrm flipH="1">
              <a:off x="6187680" y="3942360"/>
              <a:ext cx="342000" cy="408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stealth" w="med"/>
              <a:tailEnd len="med" type="triangle" w="med"/>
            </a:ln>
          </p:spPr>
        </p:cxnSp>
        <p:sp>
          <p:nvSpPr>
            <p:cNvPr id="219" name="AutoShape 8"/>
            <p:cNvSpPr/>
            <p:nvPr/>
          </p:nvSpPr>
          <p:spPr>
            <a:xfrm>
              <a:off x="3454920" y="5276880"/>
              <a:ext cx="501120" cy="51228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20" name="AutoShape 7"/>
            <p:cNvCxnSpPr/>
            <p:nvPr/>
          </p:nvCxnSpPr>
          <p:spPr>
            <a:xfrm flipH="1" rot="16200000">
              <a:off x="2543040" y="4622400"/>
              <a:ext cx="758160" cy="1063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21" name="AutoShape 6"/>
            <p:cNvCxnSpPr/>
            <p:nvPr/>
          </p:nvCxnSpPr>
          <p:spPr>
            <a:xfrm flipV="1">
              <a:off x="3956400" y="4350600"/>
              <a:ext cx="228240" cy="118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stealth" w="med"/>
              <a:tailEnd len="med" type="triangle" w="med"/>
            </a:ln>
          </p:spPr>
        </p:cxnSp>
        <p:sp>
          <p:nvSpPr>
            <p:cNvPr id="222" name="AutoShape 5"/>
            <p:cNvSpPr/>
            <p:nvPr/>
          </p:nvSpPr>
          <p:spPr>
            <a:xfrm>
              <a:off x="7586280" y="4711680"/>
              <a:ext cx="501120" cy="48888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Text Box 4"/>
            <p:cNvSpPr/>
            <p:nvPr/>
          </p:nvSpPr>
          <p:spPr>
            <a:xfrm>
              <a:off x="7365240" y="5276880"/>
              <a:ext cx="94032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ROUTERS</a:t>
              </a:r>
              <a:endParaRPr b="0" i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6633"/>
                </a:solidFill>
                <a:latin typeface="Garamond"/>
              </a:rPr>
              <a:t>TCP/IP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1295280" y="121896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Transmission Control Protocol/ Internet Protoco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process of transferring packets from one computer to another computer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Medium interne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These layers are connected through different rules and definitions in four layers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Network layer : </a:t>
            </a:r>
            <a:r>
              <a:rPr b="1" lang="en-GB" sz="1600" spc="-1" strike="noStrike">
                <a:solidFill>
                  <a:srgbClr val="333399"/>
                </a:solidFill>
                <a:latin typeface="Arial"/>
              </a:rPr>
              <a:t>network layer helps in forwarding packets to different layers depending on the address on the packet</a:t>
            </a:r>
            <a:endParaRPr b="1" lang="en-US" sz="1600" spc="-1" strike="noStrike">
              <a:solidFill>
                <a:srgbClr val="333399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Transport Layer: </a:t>
            </a:r>
            <a:r>
              <a:rPr b="1" lang="en-GB" sz="1600" spc="-1" strike="noStrike">
                <a:solidFill>
                  <a:srgbClr val="333399"/>
                </a:solidFill>
                <a:latin typeface="Arial"/>
              </a:rPr>
              <a:t>forwarding takes place through transport layer </a:t>
            </a:r>
            <a:endParaRPr b="1" lang="en-US" sz="1600" spc="-1" strike="noStrike">
              <a:solidFill>
                <a:srgbClr val="333399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Application Layer: </a:t>
            </a:r>
            <a:r>
              <a:rPr b="1" lang="en-GB" sz="1600" spc="-1" strike="noStrike">
                <a:solidFill>
                  <a:srgbClr val="333399"/>
                </a:solidFill>
                <a:latin typeface="Arial"/>
              </a:rPr>
              <a:t>supports transport of each and every application across networks</a:t>
            </a:r>
            <a:endParaRPr b="1" lang="en-US" sz="1600" spc="-1" strike="noStrike">
              <a:solidFill>
                <a:srgbClr val="333399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and Link Layer: </a:t>
            </a:r>
            <a:r>
              <a:rPr b="1" lang="en-GB" sz="1600" spc="-1" strike="noStrike">
                <a:solidFill>
                  <a:srgbClr val="333399"/>
                </a:solidFill>
                <a:latin typeface="Arial"/>
              </a:rPr>
              <a:t>Links between layers</a:t>
            </a:r>
            <a:endParaRPr b="1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655308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00"/>
                </a:solidFill>
                <a:latin typeface="Arial"/>
              </a:rPr>
              <a:t>2-</a:t>
            </a:r>
            <a:fld id="{F0BFA83D-FB20-48F5-B869-C34E9AC2B198}" type="slidenum">
              <a:rPr b="0" lang="en-US" sz="1400" spc="-1" strike="noStrike">
                <a:solidFill>
                  <a:srgbClr val="9966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4400" spc="-1" strike="noStrike">
                <a:solidFill>
                  <a:srgbClr val="996633"/>
                </a:solidFill>
                <a:latin typeface="Garamond"/>
              </a:rPr>
              <a:t>TCP/IP Diagram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655308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00"/>
                </a:solidFill>
                <a:latin typeface="Arial"/>
              </a:rPr>
              <a:t>2-</a:t>
            </a:r>
            <a:fld id="{9D39AE12-1116-4721-87F5-F68A408CE6F6}" type="slidenum">
              <a:rPr b="0" lang="en-US" sz="1400" spc="-1" strike="noStrike">
                <a:solidFill>
                  <a:srgbClr val="9966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Footer Placeholder 4"/>
          <p:cNvSpPr/>
          <p:nvPr/>
        </p:nvSpPr>
        <p:spPr>
          <a:xfrm>
            <a:off x="2666880" y="6381720"/>
            <a:ext cx="3810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Group 1"/>
          <p:cNvGrpSpPr/>
          <p:nvPr/>
        </p:nvGrpSpPr>
        <p:grpSpPr>
          <a:xfrm>
            <a:off x="1371600" y="1676520"/>
            <a:ext cx="6553080" cy="4706640"/>
            <a:chOff x="1371600" y="1676520"/>
            <a:chExt cx="6553080" cy="4706640"/>
          </a:xfrm>
        </p:grpSpPr>
        <p:sp>
          <p:nvSpPr>
            <p:cNvPr id="232" name="AutoShape 19"/>
            <p:cNvSpPr/>
            <p:nvPr/>
          </p:nvSpPr>
          <p:spPr>
            <a:xfrm>
              <a:off x="1371600" y="1676520"/>
              <a:ext cx="6553080" cy="470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 Box 18"/>
            <p:cNvSpPr/>
            <p:nvPr/>
          </p:nvSpPr>
          <p:spPr>
            <a:xfrm>
              <a:off x="1763280" y="2124360"/>
              <a:ext cx="1916640" cy="57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Application Layer</a:t>
              </a:r>
              <a:endParaRPr b="0" i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17"/>
            <p:cNvSpPr/>
            <p:nvPr/>
          </p:nvSpPr>
          <p:spPr>
            <a:xfrm>
              <a:off x="4987800" y="2189880"/>
              <a:ext cx="1959480" cy="631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TCP Layer</a:t>
              </a:r>
              <a:endParaRPr b="0" i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 Box 16"/>
            <p:cNvSpPr/>
            <p:nvPr/>
          </p:nvSpPr>
          <p:spPr>
            <a:xfrm>
              <a:off x="5128560" y="4379040"/>
              <a:ext cx="1818720" cy="816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IP Layer</a:t>
              </a:r>
              <a:endParaRPr b="0" i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15"/>
            <p:cNvSpPr/>
            <p:nvPr/>
          </p:nvSpPr>
          <p:spPr>
            <a:xfrm>
              <a:off x="1948680" y="4379040"/>
              <a:ext cx="106704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Link Layer</a:t>
              </a:r>
              <a:endParaRPr b="0" i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37" name="AutoShape 14"/>
            <p:cNvCxnSpPr/>
            <p:nvPr/>
          </p:nvCxnSpPr>
          <p:spPr>
            <a:xfrm>
              <a:off x="3680280" y="2413440"/>
              <a:ext cx="1308240" cy="92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38" name="AutoShape 13"/>
            <p:cNvSpPr/>
            <p:nvPr/>
          </p:nvSpPr>
          <p:spPr>
            <a:xfrm>
              <a:off x="3919680" y="2265840"/>
              <a:ext cx="817200" cy="424800"/>
            </a:xfrm>
            <a:prstGeom prst="borderCallout1">
              <a:avLst>
                <a:gd name="adj1" fmla="val 18750"/>
                <a:gd name="adj2" fmla="val -8333"/>
                <a:gd name="adj3" fmla="val 20513"/>
                <a:gd name="adj4" fmla="val -1066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Carries Applications</a:t>
              </a:r>
              <a:endParaRPr b="0" i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AutoShape 12"/>
            <p:cNvSpPr/>
            <p:nvPr/>
          </p:nvSpPr>
          <p:spPr>
            <a:xfrm>
              <a:off x="6272280" y="3322440"/>
              <a:ext cx="1045440" cy="653400"/>
            </a:xfrm>
            <a:prstGeom prst="borderCallout1">
              <a:avLst>
                <a:gd name="adj1" fmla="val 18750"/>
                <a:gd name="adj2" fmla="val -8333"/>
                <a:gd name="adj3" fmla="val -13333"/>
                <a:gd name="adj4" fmla="val -2395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Carries Application, and TCP details</a:t>
              </a:r>
              <a:endParaRPr b="0" i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40" name="AutoShape 11"/>
            <p:cNvCxnSpPr/>
            <p:nvPr/>
          </p:nvCxnSpPr>
          <p:spPr>
            <a:xfrm>
              <a:off x="5967720" y="2821320"/>
              <a:ext cx="70920" cy="1558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41" name="AutoShape 10"/>
            <p:cNvSpPr/>
            <p:nvPr/>
          </p:nvSpPr>
          <p:spPr>
            <a:xfrm>
              <a:off x="2232000" y="5381280"/>
              <a:ext cx="1045440" cy="522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none" w="21600" h="21600">
                  <a:moveTo>
                    <a:pt x="23400" y="5400"/>
                  </a:moveTo>
                  <a:lnTo>
                    <a:pt x="42525" y="5400"/>
                  </a:lnTo>
                  <a:lnTo>
                    <a:pt x="42525" y="5400"/>
                  </a:lnTo>
                  <a:lnTo>
                    <a:pt x="42525" y="-2415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Carries Application, TCP details, and IP details</a:t>
              </a:r>
              <a:endParaRPr b="0" i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42" name="AutoShape 9"/>
            <p:cNvCxnSpPr/>
            <p:nvPr/>
          </p:nvCxnSpPr>
          <p:spPr>
            <a:xfrm flipH="1" flipV="1">
              <a:off x="3015720" y="4759920"/>
              <a:ext cx="2113200" cy="28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43" name="AutoShape 8"/>
            <p:cNvSpPr/>
            <p:nvPr/>
          </p:nvSpPr>
          <p:spPr>
            <a:xfrm>
              <a:off x="1534680" y="2995920"/>
              <a:ext cx="696960" cy="696960"/>
            </a:xfrm>
            <a:prstGeom prst="flowChartOr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START</a:t>
              </a:r>
              <a:endParaRPr b="0" i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AutoShape 7"/>
            <p:cNvSpPr/>
            <p:nvPr/>
          </p:nvSpPr>
          <p:spPr>
            <a:xfrm>
              <a:off x="2580120" y="3213720"/>
              <a:ext cx="696960" cy="696960"/>
            </a:xfrm>
            <a:prstGeom prst="flowChartOr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END</a:t>
              </a:r>
              <a:endParaRPr b="0" i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AutoShape 6"/>
            <p:cNvSpPr/>
            <p:nvPr/>
          </p:nvSpPr>
          <p:spPr>
            <a:xfrm>
              <a:off x="3767400" y="3061080"/>
              <a:ext cx="903600" cy="980280"/>
            </a:xfrm>
            <a:prstGeom prst="borderCallout1">
              <a:avLst>
                <a:gd name="adj1" fmla="val 18750"/>
                <a:gd name="adj2" fmla="val -8333"/>
                <a:gd name="adj3" fmla="val -8888"/>
                <a:gd name="adj4" fmla="val -8554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Carries Application, TCP details, IP details and Link details</a:t>
              </a:r>
              <a:endParaRPr b="0" i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46" name="AutoShape 5"/>
            <p:cNvCxnSpPr/>
            <p:nvPr/>
          </p:nvCxnSpPr>
          <p:spPr>
            <a:xfrm flipV="1">
              <a:off x="2482200" y="3910320"/>
              <a:ext cx="447120" cy="468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7" name="AutoShape 4"/>
            <p:cNvCxnSpPr/>
            <p:nvPr/>
          </p:nvCxnSpPr>
          <p:spPr>
            <a:xfrm flipV="1">
              <a:off x="1882800" y="2701440"/>
              <a:ext cx="839160" cy="294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48" name="AutoShape 3"/>
            <p:cNvSpPr/>
            <p:nvPr/>
          </p:nvSpPr>
          <p:spPr>
            <a:xfrm>
              <a:off x="6947640" y="5533560"/>
              <a:ext cx="500760" cy="37008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Text Box 2"/>
            <p:cNvSpPr/>
            <p:nvPr/>
          </p:nvSpPr>
          <p:spPr>
            <a:xfrm>
              <a:off x="6947640" y="6001920"/>
              <a:ext cx="631440" cy="217800"/>
            </a:xfrm>
            <a:prstGeom prst="rect">
              <a:avLst/>
            </a:prstGeom>
            <a:solidFill>
              <a:srgbClr val="ffffff"/>
            </a:solidFill>
            <a:ln cap="rnd" w="93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routers</a:t>
              </a:r>
              <a:endParaRPr b="0" i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4400" spc="-1" strike="noStrike">
                <a:solidFill>
                  <a:srgbClr val="996633"/>
                </a:solidFill>
                <a:latin typeface="Garamond"/>
              </a:rPr>
              <a:t>Routing connection for packet transmission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655308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00"/>
                </a:solidFill>
                <a:latin typeface="Arial"/>
              </a:rPr>
              <a:t>2-</a:t>
            </a:r>
            <a:fld id="{6852AFBD-4EE2-486C-98B4-8955FCAF7392}" type="slidenum">
              <a:rPr b="0" lang="en-US" sz="1400" spc="-1" strike="noStrike">
                <a:solidFill>
                  <a:srgbClr val="9966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ooter Placeholder 4"/>
          <p:cNvSpPr/>
          <p:nvPr/>
        </p:nvSpPr>
        <p:spPr>
          <a:xfrm>
            <a:off x="2666880" y="6381720"/>
            <a:ext cx="3810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Group 1"/>
          <p:cNvGrpSpPr/>
          <p:nvPr/>
        </p:nvGrpSpPr>
        <p:grpSpPr>
          <a:xfrm>
            <a:off x="1371600" y="1828800"/>
            <a:ext cx="6629400" cy="3978360"/>
            <a:chOff x="1371600" y="1828800"/>
            <a:chExt cx="6629400" cy="3978360"/>
          </a:xfrm>
        </p:grpSpPr>
        <p:sp>
          <p:nvSpPr>
            <p:cNvPr id="255" name="AutoShape 14"/>
            <p:cNvSpPr/>
            <p:nvPr/>
          </p:nvSpPr>
          <p:spPr>
            <a:xfrm>
              <a:off x="1371600" y="1828800"/>
              <a:ext cx="6629400" cy="397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AutoShape 13"/>
            <p:cNvSpPr/>
            <p:nvPr/>
          </p:nvSpPr>
          <p:spPr>
            <a:xfrm>
              <a:off x="3001320" y="3029760"/>
              <a:ext cx="848160" cy="70416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Router 1</a:t>
              </a:r>
              <a:endParaRPr b="0" i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AutoShape 12"/>
            <p:cNvSpPr/>
            <p:nvPr/>
          </p:nvSpPr>
          <p:spPr>
            <a:xfrm>
              <a:off x="4037040" y="3866400"/>
              <a:ext cx="826920" cy="70416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Router 3</a:t>
              </a:r>
              <a:endParaRPr b="0" i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AutoShape 11"/>
            <p:cNvSpPr/>
            <p:nvPr/>
          </p:nvSpPr>
          <p:spPr>
            <a:xfrm>
              <a:off x="4863960" y="3128040"/>
              <a:ext cx="936360" cy="70488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Router 2</a:t>
              </a:r>
              <a:endParaRPr b="0" i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Text Box 10"/>
            <p:cNvSpPr/>
            <p:nvPr/>
          </p:nvSpPr>
          <p:spPr>
            <a:xfrm>
              <a:off x="2054520" y="2301840"/>
              <a:ext cx="1487160" cy="507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Network 1</a:t>
              </a:r>
              <a:endParaRPr b="0" i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Text Box 9"/>
            <p:cNvSpPr/>
            <p:nvPr/>
          </p:nvSpPr>
          <p:spPr>
            <a:xfrm>
              <a:off x="5613120" y="2368440"/>
              <a:ext cx="1410120" cy="44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Network 2</a:t>
              </a:r>
              <a:endParaRPr b="0" i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Text Box 8"/>
            <p:cNvSpPr/>
            <p:nvPr/>
          </p:nvSpPr>
          <p:spPr>
            <a:xfrm>
              <a:off x="3542040" y="4935960"/>
              <a:ext cx="1883880" cy="363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Network 3</a:t>
              </a:r>
              <a:endParaRPr b="0" i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62" name="AutoShape 7"/>
            <p:cNvCxnSpPr/>
            <p:nvPr/>
          </p:nvCxnSpPr>
          <p:spPr>
            <a:xfrm>
              <a:off x="2798280" y="2809080"/>
              <a:ext cx="327240" cy="323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63" name="AutoShape 6"/>
            <p:cNvCxnSpPr/>
            <p:nvPr/>
          </p:nvCxnSpPr>
          <p:spPr>
            <a:xfrm flipV="1">
              <a:off x="3849120" y="3231360"/>
              <a:ext cx="1152360" cy="151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64" name="AutoShape 5"/>
            <p:cNvCxnSpPr/>
            <p:nvPr/>
          </p:nvCxnSpPr>
          <p:spPr>
            <a:xfrm flipV="1">
              <a:off x="5662800" y="2808720"/>
              <a:ext cx="655560" cy="423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65" name="AutoShape 4"/>
            <p:cNvCxnSpPr/>
            <p:nvPr/>
          </p:nvCxnSpPr>
          <p:spPr>
            <a:xfrm>
              <a:off x="3725280" y="3631320"/>
              <a:ext cx="433080" cy="338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66" name="AutoShape 3"/>
            <p:cNvCxnSpPr/>
            <p:nvPr/>
          </p:nvCxnSpPr>
          <p:spPr>
            <a:xfrm flipV="1">
              <a:off x="4743000" y="3728880"/>
              <a:ext cx="259200" cy="240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67" name="AutoShape 2"/>
            <p:cNvCxnSpPr/>
            <p:nvPr/>
          </p:nvCxnSpPr>
          <p:spPr>
            <a:xfrm>
              <a:off x="4450320" y="4570920"/>
              <a:ext cx="34200" cy="365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2T00:21:47Z</dcterms:created>
  <dc:creator>RGPlatt</dc:creator>
  <dc:description/>
  <dc:language>en-US</dc:language>
  <cp:lastModifiedBy>Sanjay</cp:lastModifiedBy>
  <dcterms:modified xsi:type="dcterms:W3CDTF">2013-02-28T06:59:38Z</dcterms:modified>
  <cp:revision>270</cp:revision>
  <dc:subject>Awad 3rd ed</dc:subject>
  <dc:title>The World Wide Web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3</vt:r8>
  </property>
</Properties>
</file>